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E07-FA0F-45CC-947F-03E88FDF2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8B0-1CBA-4833-8221-E5337704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38B-D2AA-4C65-A032-E63C528A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7EC-7690-4E0D-87F1-93BACD33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3AD-C16F-43D2-A00B-A0E4C477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B88-36F4-4E48-BBC8-C894073D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F2C2-B4F9-4E52-82DB-52D1F8F2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0BA-AA31-4B01-AF22-007B5387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F3F-2ACB-4EF6-924B-6CCBAC87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B04-7BF8-489E-89F3-6CBED687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2794-8651-4BF3-8561-38448F6B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ABB-5D9E-46AC-9AB1-F76D93E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836-0043-4C94-B030-16C44B3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4A1-9223-45EE-B982-2C7513A95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plicatie%20elev/Exemplu%20din%20perspectiva%20elevului.%20Carcalicea%20Ion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lan%20unitate/Planul%20de%20implem.%20a%20unit.%20de%20invat.%20Carcalicea%20Ion.doc" TargetMode="External"/><Relationship Id="rId2" Type="http://schemas.openxmlformats.org/officeDocument/2006/relationships/hyperlink" Target="file:///Plan%20unitate/Planul%20de%20implem.%20a%20unit.%20de%20invat.%20Carcalicea%20Ion.doc" TargetMode="External"/><Relationship Id="rId3" Type="http://schemas.openxmlformats.org/officeDocument/2006/relationships/hyperlink" Target="file:///Plan%20unitate/Planul%20de%20implem.%20a%20unit.%20de%20invat.%20Carcalicea%20Ion.doc" TargetMode="External"/><Relationship Id="rId4" Type="http://schemas.openxmlformats.org/officeDocument/2006/relationships/hyperlink" Target="file:///Plan%20unitate/Planul%20de%20implem.%20a%20unit.%20de%20invat.%20Carcalicea%20Ion.doc" TargetMode="External"/><Relationship Id="rId5" Type="http://schemas.openxmlformats.org/officeDocument/2006/relationships/hyperlink" Target="file:///Plan%20unitate/Planul%20de%20implem.%20a%20unit.%20de%20invat.%20Carcalicea%20Ion.doc" TargetMode="External"/><Relationship Id="rId6" Type="http://schemas.openxmlformats.org/officeDocument/2006/relationships/hyperlink" Target="file:///Plan%20unitate/Planul%20de%20implem.%20a%20unit.%20de%20invat.%20Carcalicea%20Ion.doc" TargetMode="External"/><Relationship Id="rId7" Type="http://schemas.openxmlformats.org/officeDocument/2006/relationships/hyperlink" Target="file:///Plan%20unitate/Planul%20de%20implem.%20a%20unit.%20de%20invat.%20Carcalicea%20Ion.doc" TargetMode="External"/><Relationship Id="rId8" Type="http://schemas.openxmlformats.org/officeDocument/2006/relationships/hyperlink" Target="file:///Plan%20unitate/Planul%20de%20implem.%20a%20unit.%20de%20invat.%20Carcalicea%20Ion.doc" TargetMode="External"/><Relationship Id="rId9" Type="http://schemas.openxmlformats.org/officeDocument/2006/relationships/hyperlink" Target="file:///Plan%20unitate/Plan%20unitate%20de%20&#238;nv&#259;&#539;are.doc" TargetMode="External"/><Relationship Id="rId10" Type="http://schemas.openxmlformats.org/officeDocument/2006/relationships/hyperlink" Target="file:///Plan%20unitate/Bibliografie.Carcalicea%20Ion.docx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ezentarea portofoliulu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ŢIUNI  DE  FONE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504960"/>
            <a:ext cx="7467480" cy="17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of.CARCALICEA  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Bookman Old Style"/>
              </a:rPr>
              <a:t>Şcoala  Generală nr.1,Nego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Limba şi literatura româ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Clasa a VI-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2286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Noţiuni de fonet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743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741400" cy="3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838080" y="1447920"/>
          <a:ext cx="7543800" cy="4182840"/>
        </p:xfrm>
        <a:graphic>
          <a:graphicData uri="http://schemas.openxmlformats.org/drawingml/2006/table">
            <a:tbl>
              <a:tblPr/>
              <a:tblGrid>
                <a:gridCol w="2819520"/>
                <a:gridCol w="472428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are esenţial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ce este foarte important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ă cunoaşterea în profunzime a limbii române uzua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le unităţii de învăţar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De ce trebuie să cunoaştem structura funcţională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În ce fel necunoaşterea sensurilor cuvintelor limbii române poate influenţa comunicare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Se poate folosi corect în scris un cuvânt al limbii române dacă nu i se cunoaşte structura intern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 de conţinu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unetul,litera şi silab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mijloacele interne de îmbogăţire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in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ant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om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par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este pleonasmu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7400" y="533520"/>
            <a:ext cx="5029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68580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PLICAŢIE  ELEV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752480"/>
            <a:ext cx="5715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182880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ISTENŢĂ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895480"/>
            <a:ext cx="3886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95480" y="304812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VALUAR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4114800"/>
            <a:ext cx="6400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76520" y="4343400"/>
            <a:ext cx="594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MAGINI  ŞI  SUNET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486400"/>
            <a:ext cx="51055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09680" y="5638680"/>
            <a:ext cx="4648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LAN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/>
          </p:cNvPr>
          <p:cNvSpPr/>
          <p:nvPr/>
        </p:nvSpPr>
        <p:spPr>
          <a:xfrm>
            <a:off x="1523880" y="1066680"/>
            <a:ext cx="6477120" cy="2133720"/>
          </a:xfrm>
          <a:custGeom>
            <a:avLst/>
            <a:gdLst>
              <a:gd name="textAreaLeft" fmla="*/ 138240 w 6477120"/>
              <a:gd name="textAreaRight" fmla="*/ 6338880 w 64771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65562" h="21600">
                <a:moveTo>
                  <a:pt x="0" y="0"/>
                </a:moveTo>
                <a:lnTo>
                  <a:pt x="65562" y="0"/>
                </a:lnTo>
                <a:lnTo>
                  <a:pt x="65562" y="21600"/>
                </a:lnTo>
                <a:lnTo>
                  <a:pt x="0" y="21600"/>
                </a:lnTo>
                <a:close/>
              </a:path>
              <a:path fill="lightenLess" w="65562" h="21600">
                <a:moveTo>
                  <a:pt x="0" y="0"/>
                </a:moveTo>
                <a:lnTo>
                  <a:pt x="65562" y="0"/>
                </a:lnTo>
                <a:lnTo>
                  <a:pt x="64162" y="1400"/>
                </a:lnTo>
                <a:lnTo>
                  <a:pt x="1400" y="1400"/>
                </a:lnTo>
                <a:close/>
              </a:path>
              <a:path fill="darken" w="65562" h="21600">
                <a:moveTo>
                  <a:pt x="65562" y="0"/>
                </a:moveTo>
                <a:lnTo>
                  <a:pt x="65562" y="21600"/>
                </a:lnTo>
                <a:lnTo>
                  <a:pt x="64162" y="20200"/>
                </a:lnTo>
                <a:lnTo>
                  <a:pt x="64162" y="1400"/>
                </a:lnTo>
                <a:close/>
              </a:path>
              <a:path fill="darkenLess" w="65562" h="21600">
                <a:moveTo>
                  <a:pt x="65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62" y="20200"/>
                </a:lnTo>
                <a:close/>
              </a:path>
              <a:path fill="lighten" w="65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EXEMPLUL   D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ERSPECTIVA  ELEV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1295280" y="472428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6858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UBLICAŢ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85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LANIFI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ASA  A  VI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362320"/>
            <a:ext cx="3124080" cy="1523880"/>
          </a:xfrm>
          <a:custGeom>
            <a:avLst/>
            <a:gdLst>
              <a:gd name="textAreaLeft" fmla="*/ 98640 w 3124080"/>
              <a:gd name="textAreaRight" fmla="*/ 3025440 w 31240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44276" h="21600">
                <a:moveTo>
                  <a:pt x="0" y="0"/>
                </a:moveTo>
                <a:lnTo>
                  <a:pt x="44276" y="0"/>
                </a:lnTo>
                <a:lnTo>
                  <a:pt x="44276" y="21600"/>
                </a:lnTo>
                <a:lnTo>
                  <a:pt x="0" y="21600"/>
                </a:lnTo>
                <a:close/>
              </a:path>
              <a:path fill="lightenLess" w="44276" h="21600">
                <a:moveTo>
                  <a:pt x="0" y="0"/>
                </a:moveTo>
                <a:lnTo>
                  <a:pt x="44276" y="0"/>
                </a:lnTo>
                <a:lnTo>
                  <a:pt x="42876" y="1400"/>
                </a:lnTo>
                <a:lnTo>
                  <a:pt x="1400" y="1400"/>
                </a:lnTo>
                <a:close/>
              </a:path>
              <a:path fill="darken" w="44276" h="21600">
                <a:moveTo>
                  <a:pt x="44276" y="0"/>
                </a:moveTo>
                <a:lnTo>
                  <a:pt x="44276" y="21600"/>
                </a:lnTo>
                <a:lnTo>
                  <a:pt x="42876" y="20200"/>
                </a:lnTo>
                <a:lnTo>
                  <a:pt x="42876" y="1400"/>
                </a:lnTo>
                <a:close/>
              </a:path>
              <a:path fill="darkenLess" w="44276" h="21600">
                <a:moveTo>
                  <a:pt x="44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76" y="20200"/>
                </a:lnTo>
                <a:close/>
              </a:path>
              <a:path fill="lighten" w="44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GRAMA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IMBA  ŞI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OMÂ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LASA a VI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2362320"/>
            <a:ext cx="3352680" cy="1447560"/>
          </a:xfrm>
          <a:custGeom>
            <a:avLst/>
            <a:gdLst>
              <a:gd name="textAreaLeft" fmla="*/ 93600 w 3352680"/>
              <a:gd name="textAreaRight" fmla="*/ 3259080 w 33526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50020" h="21600">
                <a:moveTo>
                  <a:pt x="0" y="0"/>
                </a:moveTo>
                <a:lnTo>
                  <a:pt x="50020" y="0"/>
                </a:lnTo>
                <a:lnTo>
                  <a:pt x="50020" y="21600"/>
                </a:lnTo>
                <a:lnTo>
                  <a:pt x="0" y="21600"/>
                </a:lnTo>
                <a:close/>
              </a:path>
              <a:path fill="lightenLess" w="50020" h="21600">
                <a:moveTo>
                  <a:pt x="0" y="0"/>
                </a:moveTo>
                <a:lnTo>
                  <a:pt x="50020" y="0"/>
                </a:lnTo>
                <a:lnTo>
                  <a:pt x="48621" y="1400"/>
                </a:lnTo>
                <a:lnTo>
                  <a:pt x="1400" y="1400"/>
                </a:lnTo>
                <a:close/>
              </a:path>
              <a:path fill="darken" w="50020" h="21600">
                <a:moveTo>
                  <a:pt x="50020" y="0"/>
                </a:moveTo>
                <a:lnTo>
                  <a:pt x="50020" y="21600"/>
                </a:lnTo>
                <a:lnTo>
                  <a:pt x="48621" y="20200"/>
                </a:lnTo>
                <a:lnTo>
                  <a:pt x="48621" y="1400"/>
                </a:lnTo>
                <a:close/>
              </a:path>
              <a:path fill="darkenLess" w="50020" h="21600">
                <a:moveTo>
                  <a:pt x="50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621" y="20200"/>
                </a:lnTo>
                <a:close/>
              </a:path>
              <a:path fill="lighten" w="50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TITL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TĂŢII  DE  ÎNVĂŢ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2895480" y="4876920"/>
            <a:ext cx="3733920" cy="1218960"/>
          </a:xfrm>
          <a:custGeom>
            <a:avLst/>
            <a:gdLst>
              <a:gd name="textAreaLeft" fmla="*/ 78840 w 3733920"/>
              <a:gd name="textAreaRight" fmla="*/ 3655080 w 3733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66152" h="21600">
                <a:moveTo>
                  <a:pt x="0" y="0"/>
                </a:moveTo>
                <a:lnTo>
                  <a:pt x="66152" y="0"/>
                </a:lnTo>
                <a:lnTo>
                  <a:pt x="66152" y="21600"/>
                </a:lnTo>
                <a:lnTo>
                  <a:pt x="0" y="21600"/>
                </a:lnTo>
                <a:close/>
              </a:path>
              <a:path fill="lightenLess" w="66152" h="21600">
                <a:moveTo>
                  <a:pt x="0" y="0"/>
                </a:moveTo>
                <a:lnTo>
                  <a:pt x="66152" y="0"/>
                </a:lnTo>
                <a:lnTo>
                  <a:pt x="64752" y="1400"/>
                </a:lnTo>
                <a:lnTo>
                  <a:pt x="1400" y="1400"/>
                </a:lnTo>
                <a:close/>
              </a:path>
              <a:path fill="darken" w="66152" h="21600">
                <a:moveTo>
                  <a:pt x="66152" y="0"/>
                </a:moveTo>
                <a:lnTo>
                  <a:pt x="66152" y="21600"/>
                </a:lnTo>
                <a:lnTo>
                  <a:pt x="64752" y="20200"/>
                </a:lnTo>
                <a:lnTo>
                  <a:pt x="64752" y="1400"/>
                </a:lnTo>
                <a:close/>
              </a:path>
              <a:path fill="darkenLess" w="66152" h="21600">
                <a:moveTo>
                  <a:pt x="6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52" y="20200"/>
                </a:lnTo>
                <a:close/>
              </a:path>
              <a:path fill="lighten" w="6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OC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914400" y="50292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762120"/>
            <a:ext cx="3200400" cy="2057400"/>
          </a:xfrm>
          <a:custGeom>
            <a:avLst/>
            <a:gdLst>
              <a:gd name="textAreaLeft" fmla="*/ 133200 w 3200400"/>
              <a:gd name="textAreaRight" fmla="*/ 3067200 w 3200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3598" h="21600">
                <a:moveTo>
                  <a:pt x="0" y="0"/>
                </a:moveTo>
                <a:lnTo>
                  <a:pt x="33598" y="0"/>
                </a:lnTo>
                <a:lnTo>
                  <a:pt x="33598" y="21600"/>
                </a:lnTo>
                <a:lnTo>
                  <a:pt x="0" y="21600"/>
                </a:lnTo>
                <a:close/>
              </a:path>
              <a:path fill="lightenLess" w="33598" h="21600">
                <a:moveTo>
                  <a:pt x="0" y="0"/>
                </a:moveTo>
                <a:lnTo>
                  <a:pt x="33598" y="0"/>
                </a:lnTo>
                <a:lnTo>
                  <a:pt x="32198" y="1400"/>
                </a:lnTo>
                <a:lnTo>
                  <a:pt x="1400" y="1400"/>
                </a:lnTo>
                <a:close/>
              </a:path>
              <a:path fill="darken" w="33598" h="21600">
                <a:moveTo>
                  <a:pt x="33598" y="0"/>
                </a:moveTo>
                <a:lnTo>
                  <a:pt x="33598" y="21600"/>
                </a:lnTo>
                <a:lnTo>
                  <a:pt x="32198" y="20200"/>
                </a:lnTo>
                <a:lnTo>
                  <a:pt x="32198" y="1400"/>
                </a:lnTo>
                <a:close/>
              </a:path>
              <a:path fill="darkenLess" w="33598" h="21600">
                <a:moveTo>
                  <a:pt x="33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8" y="20200"/>
                </a:lnTo>
                <a:close/>
              </a:path>
              <a:path fill="lighten" w="33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ZEN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URS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TEL 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762120"/>
            <a:ext cx="3124080" cy="198108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4060" h="21600">
                <a:moveTo>
                  <a:pt x="0" y="0"/>
                </a:moveTo>
                <a:lnTo>
                  <a:pt x="34060" y="0"/>
                </a:lnTo>
                <a:lnTo>
                  <a:pt x="34060" y="21600"/>
                </a:lnTo>
                <a:lnTo>
                  <a:pt x="0" y="21600"/>
                </a:lnTo>
                <a:close/>
              </a:path>
              <a:path fill="lightenLess" w="34060" h="21600">
                <a:moveTo>
                  <a:pt x="0" y="0"/>
                </a:moveTo>
                <a:lnTo>
                  <a:pt x="34060" y="0"/>
                </a:lnTo>
                <a:lnTo>
                  <a:pt x="32660" y="1400"/>
                </a:lnTo>
                <a:lnTo>
                  <a:pt x="1400" y="1400"/>
                </a:lnTo>
                <a:close/>
              </a:path>
              <a:path fill="darken" w="34060" h="21600">
                <a:moveTo>
                  <a:pt x="34060" y="0"/>
                </a:moveTo>
                <a:lnTo>
                  <a:pt x="34060" y="21600"/>
                </a:lnTo>
                <a:lnTo>
                  <a:pt x="32660" y="20200"/>
                </a:lnTo>
                <a:lnTo>
                  <a:pt x="32660" y="1400"/>
                </a:lnTo>
                <a:close/>
              </a:path>
              <a:path fill="darkenLess" w="34060" h="21600">
                <a:moveTo>
                  <a:pt x="34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60" y="20200"/>
                </a:lnTo>
                <a:close/>
              </a:path>
              <a:path fill="lighten" w="34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IŞA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CRU PRIV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COPU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86200"/>
            <a:ext cx="3809880" cy="2133720"/>
          </a:xfrm>
          <a:custGeom>
            <a:avLst/>
            <a:gdLst>
              <a:gd name="textAreaLeft" fmla="*/ 138240 w 3809880"/>
              <a:gd name="textAreaRight" fmla="*/ 3671640 w 380988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38565" h="21600">
                <a:moveTo>
                  <a:pt x="0" y="0"/>
                </a:moveTo>
                <a:lnTo>
                  <a:pt x="38565" y="0"/>
                </a:lnTo>
                <a:lnTo>
                  <a:pt x="38565" y="21600"/>
                </a:lnTo>
                <a:lnTo>
                  <a:pt x="0" y="21600"/>
                </a:lnTo>
                <a:close/>
              </a:path>
              <a:path fill="lightenLess" w="38565" h="21600">
                <a:moveTo>
                  <a:pt x="0" y="0"/>
                </a:moveTo>
                <a:lnTo>
                  <a:pt x="38565" y="0"/>
                </a:lnTo>
                <a:lnTo>
                  <a:pt x="37165" y="1400"/>
                </a:lnTo>
                <a:lnTo>
                  <a:pt x="1400" y="1400"/>
                </a:lnTo>
                <a:close/>
              </a:path>
              <a:path fill="darken" w="38565" h="21600">
                <a:moveTo>
                  <a:pt x="38565" y="0"/>
                </a:moveTo>
                <a:lnTo>
                  <a:pt x="38565" y="21600"/>
                </a:lnTo>
                <a:lnTo>
                  <a:pt x="37165" y="20200"/>
                </a:lnTo>
                <a:lnTo>
                  <a:pt x="37165" y="1400"/>
                </a:lnTo>
                <a:close/>
              </a:path>
              <a:path fill="darkenLess" w="38565" h="21600">
                <a:moveTo>
                  <a:pt x="38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65" y="20200"/>
                </a:lnTo>
                <a:close/>
              </a:path>
              <a:path fill="lighten" w="38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FORM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EC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990720" y="51055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4" h="21600">
                <a:moveTo>
                  <a:pt x="11632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lnTo>
                  <a:pt x="18595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3" y="17989"/>
                </a:lnTo>
                <a:lnTo>
                  <a:pt x="6323" y="10800"/>
                </a:lnTo>
                <a:lnTo>
                  <a:pt x="4669" y="10800"/>
                </a:lnTo>
                <a:close/>
              </a:path>
              <a:path fill="darkenLess" w="23264" h="21600">
                <a:moveTo>
                  <a:pt x="14208" y="6448"/>
                </a:move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close/>
              </a:path>
              <a:path fill="darkenLess" w="23264" h="21600">
                <a:moveTo>
                  <a:pt x="10709" y="14299"/>
                </a:moveTo>
                <a:lnTo>
                  <a:pt x="12555" y="14299"/>
                </a:lnTo>
                <a:lnTo>
                  <a:pt x="12555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3" y="10800"/>
                </a:lnTo>
                <a:lnTo>
                  <a:pt x="6323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457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3837"/>
                </a:moveTo>
                <a:lnTo>
                  <a:pt x="15342" y="6448"/>
                </a:ln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lnTo>
                  <a:pt x="19729" y="10800"/>
                </a:lnTo>
                <a:lnTo>
                  <a:pt x="18075" y="10800"/>
                </a:lnTo>
                <a:lnTo>
                  <a:pt x="18075" y="17989"/>
                </a:lnTo>
                <a:lnTo>
                  <a:pt x="7457" y="17989"/>
                </a:lnTo>
                <a:lnTo>
                  <a:pt x="7457" y="10800"/>
                </a:lnTo>
                <a:lnTo>
                  <a:pt x="5803" y="10800"/>
                </a:lnTo>
                <a:close/>
              </a:path>
              <a:path fill="darkenLess" w="25532" h="21600">
                <a:moveTo>
                  <a:pt x="15342" y="6448"/>
                </a:move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close/>
              </a:path>
              <a:path fill="darkenLess" w="25532" h="21600">
                <a:moveTo>
                  <a:pt x="11844" y="14299"/>
                </a:moveTo>
                <a:lnTo>
                  <a:pt x="13689" y="14299"/>
                </a:lnTo>
                <a:lnTo>
                  <a:pt x="13689" y="17989"/>
                </a:lnTo>
                <a:lnTo>
                  <a:pt x="18075" y="17989"/>
                </a:lnTo>
                <a:lnTo>
                  <a:pt x="18075" y="10800"/>
                </a:lnTo>
                <a:lnTo>
                  <a:pt x="7457" y="10800"/>
                </a:lnTo>
                <a:lnTo>
                  <a:pt x="7457" y="17989"/>
                </a:lnTo>
                <a:lnTo>
                  <a:pt x="1184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934320" y="457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5720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5909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72428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69343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45720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259092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72428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6934320" y="3809880"/>
            <a:ext cx="186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858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ANURILOR 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6858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BL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 EVALU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EV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ONDAJ  PRIV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LOS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STRURII  DIFERENŢ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2860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IŢI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809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RMATIVĂ 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8098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RMATIVĂ 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3341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  EVALU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I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1066680" y="54100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12761" y="3837"/>
                </a:moveTo>
                <a:lnTo>
                  <a:pt x="15337" y="6448"/>
                </a:ln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0" y="10800"/>
                </a:lnTo>
                <a:lnTo>
                  <a:pt x="18070" y="17989"/>
                </a:lnTo>
                <a:lnTo>
                  <a:pt x="7451" y="17989"/>
                </a:lnTo>
                <a:lnTo>
                  <a:pt x="7451" y="10800"/>
                </a:lnTo>
                <a:lnTo>
                  <a:pt x="5798" y="10800"/>
                </a:lnTo>
                <a:close/>
              </a:path>
              <a:path fill="darkenLess" w="25521" h="21600">
                <a:moveTo>
                  <a:pt x="15337" y="6448"/>
                </a:move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1" h="21600">
                <a:moveTo>
                  <a:pt x="11838" y="14299"/>
                </a:moveTo>
                <a:lnTo>
                  <a:pt x="13683" y="14299"/>
                </a:lnTo>
                <a:lnTo>
                  <a:pt x="13683" y="17989"/>
                </a:lnTo>
                <a:lnTo>
                  <a:pt x="18070" y="17989"/>
                </a:lnTo>
                <a:lnTo>
                  <a:pt x="18070" y="10800"/>
                </a:lnTo>
                <a:lnTo>
                  <a:pt x="7451" y="10800"/>
                </a:lnTo>
                <a:lnTo>
                  <a:pt x="7451" y="17989"/>
                </a:lnTo>
                <a:lnTo>
                  <a:pt x="1183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2362320"/>
            <a:ext cx="5410080" cy="1218960"/>
          </a:xfrm>
          <a:custGeom>
            <a:avLst/>
            <a:gdLst>
              <a:gd name="textAreaLeft" fmla="*/ 78840 w 5410080"/>
              <a:gd name="textAreaRight" fmla="*/ 5331240 w 54100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95845" h="21600">
                <a:moveTo>
                  <a:pt x="0" y="0"/>
                </a:moveTo>
                <a:lnTo>
                  <a:pt x="95845" y="0"/>
                </a:lnTo>
                <a:lnTo>
                  <a:pt x="95845" y="21600"/>
                </a:lnTo>
                <a:lnTo>
                  <a:pt x="0" y="21600"/>
                </a:lnTo>
                <a:close/>
              </a:path>
              <a:path fill="lightenLess" w="95845" h="21600">
                <a:moveTo>
                  <a:pt x="0" y="0"/>
                </a:moveTo>
                <a:lnTo>
                  <a:pt x="95845" y="0"/>
                </a:lnTo>
                <a:lnTo>
                  <a:pt x="94445" y="1400"/>
                </a:lnTo>
                <a:lnTo>
                  <a:pt x="1400" y="1400"/>
                </a:lnTo>
                <a:close/>
              </a:path>
              <a:path fill="darken" w="95845" h="21600">
                <a:moveTo>
                  <a:pt x="95845" y="0"/>
                </a:moveTo>
                <a:lnTo>
                  <a:pt x="95845" y="21600"/>
                </a:lnTo>
                <a:lnTo>
                  <a:pt x="94445" y="20200"/>
                </a:lnTo>
                <a:lnTo>
                  <a:pt x="94445" y="1400"/>
                </a:lnTo>
                <a:close/>
              </a:path>
              <a:path fill="darkenLess" w="95845" h="21600">
                <a:moveTo>
                  <a:pt x="95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45" y="20200"/>
                </a:lnTo>
                <a:close/>
              </a:path>
              <a:path fill="lighten" w="95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plementar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nit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85800"/>
            <a:ext cx="5486400" cy="1066680"/>
          </a:xfrm>
          <a:custGeom>
            <a:avLst/>
            <a:gdLst>
              <a:gd name="textAreaLeft" fmla="*/ 69120 w 5486400"/>
              <a:gd name="textAreaRight" fmla="*/ 5417280 w 5486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11068" h="21600">
                <a:moveTo>
                  <a:pt x="0" y="0"/>
                </a:moveTo>
                <a:lnTo>
                  <a:pt x="111068" y="0"/>
                </a:lnTo>
                <a:lnTo>
                  <a:pt x="111068" y="21600"/>
                </a:lnTo>
                <a:lnTo>
                  <a:pt x="0" y="21600"/>
                </a:lnTo>
                <a:close/>
              </a:path>
              <a:path fill="lightenLess" w="111068" h="21600">
                <a:moveTo>
                  <a:pt x="0" y="0"/>
                </a:moveTo>
                <a:lnTo>
                  <a:pt x="111068" y="0"/>
                </a:lnTo>
                <a:lnTo>
                  <a:pt x="109668" y="1400"/>
                </a:lnTo>
                <a:lnTo>
                  <a:pt x="1400" y="1400"/>
                </a:lnTo>
                <a:close/>
              </a:path>
              <a:path fill="darken" w="111068" h="21600">
                <a:moveTo>
                  <a:pt x="111068" y="0"/>
                </a:moveTo>
                <a:lnTo>
                  <a:pt x="111068" y="21600"/>
                </a:lnTo>
                <a:lnTo>
                  <a:pt x="109668" y="20200"/>
                </a:lnTo>
                <a:lnTo>
                  <a:pt x="109668" y="1400"/>
                </a:lnTo>
                <a:close/>
              </a:path>
              <a:path fill="darkenLess" w="111068" h="21600">
                <a:moveTo>
                  <a:pt x="111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68" y="20200"/>
                </a:lnTo>
                <a:close/>
              </a:path>
              <a:path fill="lighten" w="111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lanul unit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7080"/>
            <a:ext cx="5486400" cy="1143000"/>
          </a:xfrm>
          <a:custGeom>
            <a:avLst/>
            <a:gdLst>
              <a:gd name="textAreaLeft" fmla="*/ 73800 w 5486400"/>
              <a:gd name="textAreaRight" fmla="*/ 5412600 w 5486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3654" h="21600">
                <a:moveTo>
                  <a:pt x="0" y="0"/>
                </a:moveTo>
                <a:lnTo>
                  <a:pt x="103654" y="0"/>
                </a:lnTo>
                <a:lnTo>
                  <a:pt x="103654" y="21600"/>
                </a:lnTo>
                <a:lnTo>
                  <a:pt x="0" y="21600"/>
                </a:lnTo>
                <a:close/>
              </a:path>
              <a:path fill="lightenLess" w="103654" h="21600">
                <a:moveTo>
                  <a:pt x="0" y="0"/>
                </a:moveTo>
                <a:lnTo>
                  <a:pt x="103654" y="0"/>
                </a:lnTo>
                <a:lnTo>
                  <a:pt x="102254" y="1400"/>
                </a:lnTo>
                <a:lnTo>
                  <a:pt x="1400" y="1400"/>
                </a:lnTo>
                <a:close/>
              </a:path>
              <a:path fill="darken" w="103654" h="21600">
                <a:moveTo>
                  <a:pt x="103654" y="0"/>
                </a:moveTo>
                <a:lnTo>
                  <a:pt x="103654" y="21600"/>
                </a:lnTo>
                <a:lnTo>
                  <a:pt x="102254" y="20200"/>
                </a:lnTo>
                <a:lnTo>
                  <a:pt x="102254" y="1400"/>
                </a:lnTo>
                <a:close/>
              </a:path>
              <a:path fill="darkenLess" w="103654" h="21600">
                <a:moveTo>
                  <a:pt x="103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54" y="20200"/>
                </a:lnTo>
                <a:close/>
              </a:path>
              <a:path fill="lighten" w="103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1" action="ppaction://hlinksldjump"/>
          </p:cNvPr>
          <p:cNvSpPr/>
          <p:nvPr/>
        </p:nvSpPr>
        <p:spPr>
          <a:xfrm>
            <a:off x="685800" y="5715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9433" y="3837"/>
                </a:moveTo>
                <a:lnTo>
                  <a:pt x="22009" y="6448"/>
                </a:ln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lnTo>
                  <a:pt x="26396" y="10800"/>
                </a:lnTo>
                <a:lnTo>
                  <a:pt x="24742" y="10800"/>
                </a:lnTo>
                <a:lnTo>
                  <a:pt x="24742" y="17989"/>
                </a:lnTo>
                <a:lnTo>
                  <a:pt x="14124" y="17989"/>
                </a:lnTo>
                <a:lnTo>
                  <a:pt x="14124" y="10800"/>
                </a:lnTo>
                <a:lnTo>
                  <a:pt x="12470" y="10800"/>
                </a:lnTo>
                <a:close/>
              </a:path>
              <a:path fill="darkenLess" w="38866" h="21600">
                <a:moveTo>
                  <a:pt x="22009" y="6448"/>
                </a:move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close/>
              </a:path>
              <a:path fill="darkenLess" w="38866" h="21600">
                <a:moveTo>
                  <a:pt x="18510" y="14299"/>
                </a:moveTo>
                <a:lnTo>
                  <a:pt x="20355" y="14299"/>
                </a:lnTo>
                <a:lnTo>
                  <a:pt x="20355" y="17989"/>
                </a:lnTo>
                <a:lnTo>
                  <a:pt x="24742" y="17989"/>
                </a:lnTo>
                <a:lnTo>
                  <a:pt x="24742" y="10800"/>
                </a:lnTo>
                <a:lnTo>
                  <a:pt x="14124" y="10800"/>
                </a:lnTo>
                <a:lnTo>
                  <a:pt x="14124" y="17989"/>
                </a:lnTo>
                <a:lnTo>
                  <a:pt x="1851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acer</cp:lastModifiedBy>
  <dcterms:modified xsi:type="dcterms:W3CDTF">2010-04-21T12:52:27Z</dcterms:modified>
  <cp:revision>33</cp:revision>
  <dc:subject/>
  <dc:title>Unit Plan Portfolio</dc:title>
</cp:coreProperties>
</file>