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35E3-03F2-48F3-B16B-BB5D15BFF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all of your documents to the items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E97-8183-410F-A292-8E4FD5D2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865-44FB-437F-85D2-CE70D820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24F-F362-4A7F-9A18-CEFB2497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76F-FC2E-4AC0-897E-7229A5E4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C959-FC9A-4801-8483-AB72B916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582-9A3C-4D0E-81A1-EA888289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93E-29FA-4CFA-BF04-572B2EEC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63E-F720-432A-8C49-B94A3AC8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118-5A31-49D6-BC91-8A61BD52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EB4-C206-4B16-B1C3-230F18DA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893B-5428-46DF-8CB6-5C4D77F4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ECF-976E-4A3B-A7F3-1E64EBF6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44C5-9AD3-473E-9880-8ABE8B6E9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plicatie%20elev/Exemplu%20din%20perspectiva%20elevului.%20Carcalicea%20Ion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Plan%20unitate/Planul%20de%20implem.%20a%20unit.%20de%20invat.%20Carcalicea%20Ion.doc" TargetMode="External"/><Relationship Id="rId2" Type="http://schemas.openxmlformats.org/officeDocument/2006/relationships/hyperlink" Target="file:///Plan%20unitate/Planul%20de%20implem.%20a%20unit.%20de%20invat.%20Carcalicea%20Ion.doc" TargetMode="External"/><Relationship Id="rId3" Type="http://schemas.openxmlformats.org/officeDocument/2006/relationships/hyperlink" Target="file:///Plan%20unitate/Planul%20de%20implem.%20a%20unit.%20de%20invat.%20Carcalicea%20Ion.doc" TargetMode="External"/><Relationship Id="rId4" Type="http://schemas.openxmlformats.org/officeDocument/2006/relationships/hyperlink" Target="file:///Plan%20unitate/Planul%20de%20implem.%20a%20unit.%20de%20invat.%20Carcalicea%20Ion.doc" TargetMode="External"/><Relationship Id="rId5" Type="http://schemas.openxmlformats.org/officeDocument/2006/relationships/hyperlink" Target="file:///Plan%20unitate/Planul%20de%20implem.%20a%20unit.%20de%20invat.%20Carcalicea%20Ion.doc" TargetMode="External"/><Relationship Id="rId6" Type="http://schemas.openxmlformats.org/officeDocument/2006/relationships/hyperlink" Target="file:///Plan%20unitate/Planul%20de%20implem.%20a%20unit.%20de%20invat.%20Carcalicea%20Ion.doc" TargetMode="External"/><Relationship Id="rId7" Type="http://schemas.openxmlformats.org/officeDocument/2006/relationships/hyperlink" Target="file:///Plan%20unitate/Planul%20de%20implem.%20a%20unit.%20de%20invat.%20Carcalicea%20Ion.doc" TargetMode="External"/><Relationship Id="rId8" Type="http://schemas.openxmlformats.org/officeDocument/2006/relationships/hyperlink" Target="file:///Plan%20unitate/Planul%20de%20implem.%20a%20unit.%20de%20invat.%20Carcalicea%20Ion.doc" TargetMode="External"/><Relationship Id="rId9" Type="http://schemas.openxmlformats.org/officeDocument/2006/relationships/hyperlink" Target="file:///Plan%20unitate/Plan%20unitate%20de%20&#238;nv&#259;&#539;are.doc" TargetMode="External"/><Relationship Id="rId10" Type="http://schemas.openxmlformats.org/officeDocument/2006/relationships/hyperlink" Target="file:///Plan%20unitate/Bibliografie.Carcalicea%20Ion.docx" TargetMode="External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Prezentarea portofoliului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ŢIUNI  DE  FONETIC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504960"/>
            <a:ext cx="7467480" cy="17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Prof.CARCALICEA  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Bookman Old Style"/>
              </a:rPr>
              <a:t>Şcoala  Generală nr.1,Negom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Limba şi literatura român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Clasa a VI-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8120" y="2286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Noţiuni de fonetic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743200" cy="322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741400" cy="3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838080" y="1447920"/>
          <a:ext cx="7543800" cy="4182840"/>
        </p:xfrm>
        <a:graphic>
          <a:graphicData uri="http://schemas.openxmlformats.org/drawingml/2006/table">
            <a:tbl>
              <a:tblPr/>
              <a:tblGrid>
                <a:gridCol w="2819520"/>
                <a:gridCol w="4724280"/>
              </a:tblGrid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are esenţial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ce este foarte important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ă cunoaşterea în profunzime a limbii române uzua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ările unităţii de învăţar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De ce trebuie să cunoaştem structura funcţională a vocabularului limbii româ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În ce fel necunoaşterea sensurilor cuvintelor limbii române poate influenţa comunicare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Se poate folosi corect în scris un cuvânt al limbii române dacă nu i se cunoaşte structura intern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ări de conţinu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sunetul,litera şi silab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mijloacele interne de îmbogăţire a vocabularului limbii româ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sin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ant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om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par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este pleonasmu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57400" y="533520"/>
            <a:ext cx="5029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68580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PLICAŢIE  ELEV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752480"/>
            <a:ext cx="5715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05120" y="1828800"/>
            <a:ext cx="5105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SISTENŢĂ  UNITAT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895480"/>
            <a:ext cx="38862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95480" y="3048120"/>
            <a:ext cx="320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VALUAR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4114800"/>
            <a:ext cx="6400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76520" y="4343400"/>
            <a:ext cx="594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MAGINI  ŞI  SUNET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5486400"/>
            <a:ext cx="51055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09680" y="5638680"/>
            <a:ext cx="46483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LAN  UNITAT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/>
          </p:cNvPr>
          <p:cNvSpPr/>
          <p:nvPr/>
        </p:nvSpPr>
        <p:spPr>
          <a:xfrm>
            <a:off x="1523880" y="1066680"/>
            <a:ext cx="6477120" cy="2133720"/>
          </a:xfrm>
          <a:custGeom>
            <a:avLst/>
            <a:gdLst>
              <a:gd name="textAreaLeft" fmla="*/ 138240 w 6477120"/>
              <a:gd name="textAreaRight" fmla="*/ 6338880 w 647712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65562" h="21600">
                <a:moveTo>
                  <a:pt x="0" y="0"/>
                </a:moveTo>
                <a:lnTo>
                  <a:pt x="65562" y="0"/>
                </a:lnTo>
                <a:lnTo>
                  <a:pt x="65562" y="21600"/>
                </a:lnTo>
                <a:lnTo>
                  <a:pt x="0" y="21600"/>
                </a:lnTo>
                <a:close/>
              </a:path>
              <a:path fill="lightenLess" w="65562" h="21600">
                <a:moveTo>
                  <a:pt x="0" y="0"/>
                </a:moveTo>
                <a:lnTo>
                  <a:pt x="65562" y="0"/>
                </a:lnTo>
                <a:lnTo>
                  <a:pt x="64162" y="1400"/>
                </a:lnTo>
                <a:lnTo>
                  <a:pt x="1400" y="1400"/>
                </a:lnTo>
                <a:close/>
              </a:path>
              <a:path fill="darken" w="65562" h="21600">
                <a:moveTo>
                  <a:pt x="65562" y="0"/>
                </a:moveTo>
                <a:lnTo>
                  <a:pt x="65562" y="21600"/>
                </a:lnTo>
                <a:lnTo>
                  <a:pt x="64162" y="20200"/>
                </a:lnTo>
                <a:lnTo>
                  <a:pt x="64162" y="1400"/>
                </a:lnTo>
                <a:close/>
              </a:path>
              <a:path fill="darkenLess" w="65562" h="21600">
                <a:moveTo>
                  <a:pt x="65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162" y="20200"/>
                </a:lnTo>
                <a:close/>
              </a:path>
              <a:path fill="lighten" w="65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EXEMPLUL   D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PERSPECTIVA  ELEVU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1295280" y="4724280"/>
            <a:ext cx="1676520" cy="1219320"/>
          </a:xfrm>
          <a:custGeom>
            <a:avLst/>
            <a:gdLst>
              <a:gd name="textAreaLeft" fmla="*/ 78840 w 1676520"/>
              <a:gd name="textAreaRight" fmla="*/ 1597680 w 16765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4848" y="3837"/>
                </a:moveTo>
                <a:lnTo>
                  <a:pt x="17425" y="6448"/>
                </a:ln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lnTo>
                  <a:pt x="21811" y="10800"/>
                </a:lnTo>
                <a:lnTo>
                  <a:pt x="20158" y="10800"/>
                </a:lnTo>
                <a:lnTo>
                  <a:pt x="20158" y="17989"/>
                </a:lnTo>
                <a:lnTo>
                  <a:pt x="9539" y="17989"/>
                </a:lnTo>
                <a:lnTo>
                  <a:pt x="9539" y="10800"/>
                </a:lnTo>
                <a:lnTo>
                  <a:pt x="7885" y="10800"/>
                </a:lnTo>
                <a:close/>
              </a:path>
              <a:path fill="darkenLess" w="29697" h="21600">
                <a:moveTo>
                  <a:pt x="17425" y="6448"/>
                </a:move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close/>
              </a:path>
              <a:path fill="darkenLess" w="29697" h="21600">
                <a:moveTo>
                  <a:pt x="13926" y="14299"/>
                </a:moveTo>
                <a:lnTo>
                  <a:pt x="15771" y="14299"/>
                </a:lnTo>
                <a:lnTo>
                  <a:pt x="15771" y="17989"/>
                </a:lnTo>
                <a:lnTo>
                  <a:pt x="20158" y="17989"/>
                </a:lnTo>
                <a:lnTo>
                  <a:pt x="20158" y="10800"/>
                </a:lnTo>
                <a:lnTo>
                  <a:pt x="9539" y="10800"/>
                </a:lnTo>
                <a:lnTo>
                  <a:pt x="9539" y="17989"/>
                </a:lnTo>
                <a:lnTo>
                  <a:pt x="1392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6858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UBLICAŢ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68580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LANIFIC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LASA  A  VI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362320"/>
            <a:ext cx="3124080" cy="1523880"/>
          </a:xfrm>
          <a:custGeom>
            <a:avLst/>
            <a:gdLst>
              <a:gd name="textAreaLeft" fmla="*/ 98640 w 3124080"/>
              <a:gd name="textAreaRight" fmla="*/ 3025440 w 31240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44276" h="21600">
                <a:moveTo>
                  <a:pt x="0" y="0"/>
                </a:moveTo>
                <a:lnTo>
                  <a:pt x="44276" y="0"/>
                </a:lnTo>
                <a:lnTo>
                  <a:pt x="44276" y="21600"/>
                </a:lnTo>
                <a:lnTo>
                  <a:pt x="0" y="21600"/>
                </a:lnTo>
                <a:close/>
              </a:path>
              <a:path fill="lightenLess" w="44276" h="21600">
                <a:moveTo>
                  <a:pt x="0" y="0"/>
                </a:moveTo>
                <a:lnTo>
                  <a:pt x="44276" y="0"/>
                </a:lnTo>
                <a:lnTo>
                  <a:pt x="42876" y="1400"/>
                </a:lnTo>
                <a:lnTo>
                  <a:pt x="1400" y="1400"/>
                </a:lnTo>
                <a:close/>
              </a:path>
              <a:path fill="darken" w="44276" h="21600">
                <a:moveTo>
                  <a:pt x="44276" y="0"/>
                </a:moveTo>
                <a:lnTo>
                  <a:pt x="44276" y="21600"/>
                </a:lnTo>
                <a:lnTo>
                  <a:pt x="42876" y="20200"/>
                </a:lnTo>
                <a:lnTo>
                  <a:pt x="42876" y="1400"/>
                </a:lnTo>
                <a:close/>
              </a:path>
              <a:path fill="darkenLess" w="44276" h="21600">
                <a:moveTo>
                  <a:pt x="44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876" y="20200"/>
                </a:lnTo>
                <a:close/>
              </a:path>
              <a:path fill="lighten" w="44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GRAMA 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IMBA  ŞI 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ROMÂN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LASA a VI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2362320"/>
            <a:ext cx="3352680" cy="1447560"/>
          </a:xfrm>
          <a:custGeom>
            <a:avLst/>
            <a:gdLst>
              <a:gd name="textAreaLeft" fmla="*/ 93600 w 3352680"/>
              <a:gd name="textAreaRight" fmla="*/ 3259080 w 335268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50020" h="21600">
                <a:moveTo>
                  <a:pt x="0" y="0"/>
                </a:moveTo>
                <a:lnTo>
                  <a:pt x="50020" y="0"/>
                </a:lnTo>
                <a:lnTo>
                  <a:pt x="50020" y="21600"/>
                </a:lnTo>
                <a:lnTo>
                  <a:pt x="0" y="21600"/>
                </a:lnTo>
                <a:close/>
              </a:path>
              <a:path fill="lightenLess" w="50020" h="21600">
                <a:moveTo>
                  <a:pt x="0" y="0"/>
                </a:moveTo>
                <a:lnTo>
                  <a:pt x="50020" y="0"/>
                </a:lnTo>
                <a:lnTo>
                  <a:pt x="48621" y="1400"/>
                </a:lnTo>
                <a:lnTo>
                  <a:pt x="1400" y="1400"/>
                </a:lnTo>
                <a:close/>
              </a:path>
              <a:path fill="darken" w="50020" h="21600">
                <a:moveTo>
                  <a:pt x="50020" y="0"/>
                </a:moveTo>
                <a:lnTo>
                  <a:pt x="50020" y="21600"/>
                </a:lnTo>
                <a:lnTo>
                  <a:pt x="48621" y="20200"/>
                </a:lnTo>
                <a:lnTo>
                  <a:pt x="48621" y="1400"/>
                </a:lnTo>
                <a:close/>
              </a:path>
              <a:path fill="darkenLess" w="50020" h="21600">
                <a:moveTo>
                  <a:pt x="50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621" y="20200"/>
                </a:lnTo>
                <a:close/>
              </a:path>
              <a:path fill="lighten" w="50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ISCUTAREA  TITLUL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UNTĂŢII  DE  ÎNVĂŢ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2895480" y="4876920"/>
            <a:ext cx="3733920" cy="1218960"/>
          </a:xfrm>
          <a:custGeom>
            <a:avLst/>
            <a:gdLst>
              <a:gd name="textAreaLeft" fmla="*/ 78840 w 3733920"/>
              <a:gd name="textAreaRight" fmla="*/ 3655080 w 3733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66152" h="21600">
                <a:moveTo>
                  <a:pt x="0" y="0"/>
                </a:moveTo>
                <a:lnTo>
                  <a:pt x="66152" y="0"/>
                </a:lnTo>
                <a:lnTo>
                  <a:pt x="66152" y="21600"/>
                </a:lnTo>
                <a:lnTo>
                  <a:pt x="0" y="21600"/>
                </a:lnTo>
                <a:close/>
              </a:path>
              <a:path fill="lightenLess" w="66152" h="21600">
                <a:moveTo>
                  <a:pt x="0" y="0"/>
                </a:moveTo>
                <a:lnTo>
                  <a:pt x="66152" y="0"/>
                </a:lnTo>
                <a:lnTo>
                  <a:pt x="64752" y="1400"/>
                </a:lnTo>
                <a:lnTo>
                  <a:pt x="1400" y="1400"/>
                </a:lnTo>
                <a:close/>
              </a:path>
              <a:path fill="darken" w="66152" h="21600">
                <a:moveTo>
                  <a:pt x="66152" y="0"/>
                </a:moveTo>
                <a:lnTo>
                  <a:pt x="66152" y="21600"/>
                </a:lnTo>
                <a:lnTo>
                  <a:pt x="64752" y="20200"/>
                </a:lnTo>
                <a:lnTo>
                  <a:pt x="64752" y="1400"/>
                </a:lnTo>
                <a:close/>
              </a:path>
              <a:path fill="darkenLess" w="66152" h="21600">
                <a:moveTo>
                  <a:pt x="6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52" y="20200"/>
                </a:lnTo>
                <a:close/>
              </a:path>
              <a:path fill="lighten" w="6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OCU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914400" y="502920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11521" y="3837"/>
                </a:moveTo>
                <a:lnTo>
                  <a:pt x="14097" y="6448"/>
                </a:ln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lnTo>
                  <a:pt x="18484" y="10800"/>
                </a:lnTo>
                <a:lnTo>
                  <a:pt x="16830" y="10800"/>
                </a:lnTo>
                <a:lnTo>
                  <a:pt x="16830" y="17989"/>
                </a:lnTo>
                <a:lnTo>
                  <a:pt x="6212" y="17989"/>
                </a:lnTo>
                <a:lnTo>
                  <a:pt x="6212" y="10800"/>
                </a:lnTo>
                <a:lnTo>
                  <a:pt x="4558" y="10800"/>
                </a:lnTo>
                <a:close/>
              </a:path>
              <a:path fill="darkenLess" w="23042" h="21600">
                <a:moveTo>
                  <a:pt x="14097" y="6448"/>
                </a:move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close/>
              </a:path>
              <a:path fill="darkenLess" w="23042" h="21600">
                <a:moveTo>
                  <a:pt x="10598" y="14299"/>
                </a:moveTo>
                <a:lnTo>
                  <a:pt x="12443" y="14299"/>
                </a:lnTo>
                <a:lnTo>
                  <a:pt x="12443" y="17989"/>
                </a:lnTo>
                <a:lnTo>
                  <a:pt x="16830" y="17989"/>
                </a:lnTo>
                <a:lnTo>
                  <a:pt x="16830" y="10800"/>
                </a:lnTo>
                <a:lnTo>
                  <a:pt x="6212" y="10800"/>
                </a:lnTo>
                <a:lnTo>
                  <a:pt x="6212" y="17989"/>
                </a:lnTo>
                <a:lnTo>
                  <a:pt x="105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4400" y="762120"/>
            <a:ext cx="3200400" cy="2057400"/>
          </a:xfrm>
          <a:custGeom>
            <a:avLst/>
            <a:gdLst>
              <a:gd name="textAreaLeft" fmla="*/ 133200 w 3200400"/>
              <a:gd name="textAreaRight" fmla="*/ 3067200 w 320040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33598" h="21600">
                <a:moveTo>
                  <a:pt x="0" y="0"/>
                </a:moveTo>
                <a:lnTo>
                  <a:pt x="33598" y="0"/>
                </a:lnTo>
                <a:lnTo>
                  <a:pt x="33598" y="21600"/>
                </a:lnTo>
                <a:lnTo>
                  <a:pt x="0" y="21600"/>
                </a:lnTo>
                <a:close/>
              </a:path>
              <a:path fill="lightenLess" w="33598" h="21600">
                <a:moveTo>
                  <a:pt x="0" y="0"/>
                </a:moveTo>
                <a:lnTo>
                  <a:pt x="33598" y="0"/>
                </a:lnTo>
                <a:lnTo>
                  <a:pt x="32198" y="1400"/>
                </a:lnTo>
                <a:lnTo>
                  <a:pt x="1400" y="1400"/>
                </a:lnTo>
                <a:close/>
              </a:path>
              <a:path fill="darken" w="33598" h="21600">
                <a:moveTo>
                  <a:pt x="33598" y="0"/>
                </a:moveTo>
                <a:lnTo>
                  <a:pt x="33598" y="21600"/>
                </a:lnTo>
                <a:lnTo>
                  <a:pt x="32198" y="20200"/>
                </a:lnTo>
                <a:lnTo>
                  <a:pt x="32198" y="1400"/>
                </a:lnTo>
                <a:close/>
              </a:path>
              <a:path fill="darkenLess" w="33598" h="21600">
                <a:moveTo>
                  <a:pt x="33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8" y="20200"/>
                </a:lnTo>
                <a:close/>
              </a:path>
              <a:path fill="lighten" w="33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EZENTARE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URS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TEL  T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762120"/>
            <a:ext cx="3124080" cy="1981080"/>
          </a:xfrm>
          <a:custGeom>
            <a:avLst/>
            <a:gdLst>
              <a:gd name="textAreaLeft" fmla="*/ 128160 w 3124080"/>
              <a:gd name="textAreaRight" fmla="*/ 2995920 w 312408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4060" h="21600">
                <a:moveTo>
                  <a:pt x="0" y="0"/>
                </a:moveTo>
                <a:lnTo>
                  <a:pt x="34060" y="0"/>
                </a:lnTo>
                <a:lnTo>
                  <a:pt x="34060" y="21600"/>
                </a:lnTo>
                <a:lnTo>
                  <a:pt x="0" y="21600"/>
                </a:lnTo>
                <a:close/>
              </a:path>
              <a:path fill="lightenLess" w="34060" h="21600">
                <a:moveTo>
                  <a:pt x="0" y="0"/>
                </a:moveTo>
                <a:lnTo>
                  <a:pt x="34060" y="0"/>
                </a:lnTo>
                <a:lnTo>
                  <a:pt x="32660" y="1400"/>
                </a:lnTo>
                <a:lnTo>
                  <a:pt x="1400" y="1400"/>
                </a:lnTo>
                <a:close/>
              </a:path>
              <a:path fill="darken" w="34060" h="21600">
                <a:moveTo>
                  <a:pt x="34060" y="0"/>
                </a:moveTo>
                <a:lnTo>
                  <a:pt x="34060" y="21600"/>
                </a:lnTo>
                <a:lnTo>
                  <a:pt x="32660" y="20200"/>
                </a:lnTo>
                <a:lnTo>
                  <a:pt x="32660" y="1400"/>
                </a:lnTo>
                <a:close/>
              </a:path>
              <a:path fill="darkenLess" w="34060" h="21600">
                <a:moveTo>
                  <a:pt x="34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60" y="20200"/>
                </a:lnTo>
                <a:close/>
              </a:path>
              <a:path fill="lighten" w="34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IŞA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UCRU PRIV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COPU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886200"/>
            <a:ext cx="3809880" cy="2133720"/>
          </a:xfrm>
          <a:custGeom>
            <a:avLst/>
            <a:gdLst>
              <a:gd name="textAreaLeft" fmla="*/ 138240 w 3809880"/>
              <a:gd name="textAreaRight" fmla="*/ 3671640 w 380988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38565" h="21600">
                <a:moveTo>
                  <a:pt x="0" y="0"/>
                </a:moveTo>
                <a:lnTo>
                  <a:pt x="38565" y="0"/>
                </a:lnTo>
                <a:lnTo>
                  <a:pt x="38565" y="21600"/>
                </a:lnTo>
                <a:lnTo>
                  <a:pt x="0" y="21600"/>
                </a:lnTo>
                <a:close/>
              </a:path>
              <a:path fill="lightenLess" w="38565" h="21600">
                <a:moveTo>
                  <a:pt x="0" y="0"/>
                </a:moveTo>
                <a:lnTo>
                  <a:pt x="38565" y="0"/>
                </a:lnTo>
                <a:lnTo>
                  <a:pt x="37165" y="1400"/>
                </a:lnTo>
                <a:lnTo>
                  <a:pt x="1400" y="1400"/>
                </a:lnTo>
                <a:close/>
              </a:path>
              <a:path fill="darken" w="38565" h="21600">
                <a:moveTo>
                  <a:pt x="38565" y="0"/>
                </a:moveTo>
                <a:lnTo>
                  <a:pt x="38565" y="21600"/>
                </a:lnTo>
                <a:lnTo>
                  <a:pt x="37165" y="20200"/>
                </a:lnTo>
                <a:lnTo>
                  <a:pt x="37165" y="1400"/>
                </a:lnTo>
                <a:close/>
              </a:path>
              <a:path fill="darkenLess" w="38565" h="21600">
                <a:moveTo>
                  <a:pt x="38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65" y="20200"/>
                </a:lnTo>
                <a:close/>
              </a:path>
              <a:path fill="lighten" w="38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FORMAŢ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ENT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NEC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990720" y="5105520"/>
            <a:ext cx="1066680" cy="99036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64" h="21600">
                <a:moveTo>
                  <a:pt x="0" y="0"/>
                </a:moveTo>
                <a:lnTo>
                  <a:pt x="23264" y="0"/>
                </a:lnTo>
                <a:lnTo>
                  <a:pt x="23264" y="21600"/>
                </a:lnTo>
                <a:lnTo>
                  <a:pt x="0" y="21600"/>
                </a:lnTo>
                <a:close/>
              </a:path>
              <a:path fill="lightenLess" w="23264" h="21600">
                <a:moveTo>
                  <a:pt x="0" y="0"/>
                </a:moveTo>
                <a:lnTo>
                  <a:pt x="23264" y="0"/>
                </a:lnTo>
                <a:lnTo>
                  <a:pt x="21864" y="1400"/>
                </a:lnTo>
                <a:lnTo>
                  <a:pt x="1400" y="1400"/>
                </a:lnTo>
                <a:close/>
              </a:path>
              <a:path fill="darken" w="23264" h="21600">
                <a:moveTo>
                  <a:pt x="23264" y="0"/>
                </a:moveTo>
                <a:lnTo>
                  <a:pt x="23264" y="21600"/>
                </a:lnTo>
                <a:lnTo>
                  <a:pt x="21864" y="20200"/>
                </a:lnTo>
                <a:lnTo>
                  <a:pt x="21864" y="1400"/>
                </a:lnTo>
                <a:close/>
              </a:path>
              <a:path fill="darkenLess" w="23264" h="21600">
                <a:moveTo>
                  <a:pt x="23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4" y="20200"/>
                </a:lnTo>
                <a:close/>
              </a:path>
              <a:path fill="lighten" w="23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4" h="21600">
                <a:moveTo>
                  <a:pt x="11632" y="3837"/>
                </a:moveTo>
                <a:lnTo>
                  <a:pt x="14208" y="6448"/>
                </a:lnTo>
                <a:lnTo>
                  <a:pt x="14208" y="4707"/>
                </a:lnTo>
                <a:lnTo>
                  <a:pt x="15984" y="4707"/>
                </a:lnTo>
                <a:lnTo>
                  <a:pt x="15984" y="8224"/>
                </a:lnTo>
                <a:lnTo>
                  <a:pt x="18595" y="10800"/>
                </a:lnTo>
                <a:lnTo>
                  <a:pt x="16941" y="10800"/>
                </a:lnTo>
                <a:lnTo>
                  <a:pt x="16941" y="17989"/>
                </a:lnTo>
                <a:lnTo>
                  <a:pt x="6323" y="17989"/>
                </a:lnTo>
                <a:lnTo>
                  <a:pt x="6323" y="10800"/>
                </a:lnTo>
                <a:lnTo>
                  <a:pt x="4669" y="10800"/>
                </a:lnTo>
                <a:close/>
              </a:path>
              <a:path fill="darkenLess" w="23264" h="21600">
                <a:moveTo>
                  <a:pt x="14208" y="6448"/>
                </a:moveTo>
                <a:lnTo>
                  <a:pt x="14208" y="4707"/>
                </a:lnTo>
                <a:lnTo>
                  <a:pt x="15984" y="4707"/>
                </a:lnTo>
                <a:lnTo>
                  <a:pt x="15984" y="8224"/>
                </a:lnTo>
                <a:close/>
              </a:path>
              <a:path fill="darkenLess" w="23264" h="21600">
                <a:moveTo>
                  <a:pt x="10709" y="14299"/>
                </a:moveTo>
                <a:lnTo>
                  <a:pt x="12555" y="14299"/>
                </a:lnTo>
                <a:lnTo>
                  <a:pt x="12555" y="17989"/>
                </a:lnTo>
                <a:lnTo>
                  <a:pt x="16941" y="17989"/>
                </a:lnTo>
                <a:lnTo>
                  <a:pt x="16941" y="10800"/>
                </a:lnTo>
                <a:lnTo>
                  <a:pt x="6323" y="10800"/>
                </a:lnTo>
                <a:lnTo>
                  <a:pt x="6323" y="17989"/>
                </a:lnTo>
                <a:lnTo>
                  <a:pt x="1070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457200" y="5715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3837"/>
                </a:moveTo>
                <a:lnTo>
                  <a:pt x="15342" y="6448"/>
                </a:lnTo>
                <a:lnTo>
                  <a:pt x="15342" y="4707"/>
                </a:lnTo>
                <a:lnTo>
                  <a:pt x="17118" y="4707"/>
                </a:lnTo>
                <a:lnTo>
                  <a:pt x="17118" y="8224"/>
                </a:lnTo>
                <a:lnTo>
                  <a:pt x="19729" y="10800"/>
                </a:lnTo>
                <a:lnTo>
                  <a:pt x="18075" y="10800"/>
                </a:lnTo>
                <a:lnTo>
                  <a:pt x="18075" y="17989"/>
                </a:lnTo>
                <a:lnTo>
                  <a:pt x="7457" y="17989"/>
                </a:lnTo>
                <a:lnTo>
                  <a:pt x="7457" y="10800"/>
                </a:lnTo>
                <a:lnTo>
                  <a:pt x="5803" y="10800"/>
                </a:lnTo>
                <a:close/>
              </a:path>
              <a:path fill="darkenLess" w="25532" h="21600">
                <a:moveTo>
                  <a:pt x="15342" y="6448"/>
                </a:moveTo>
                <a:lnTo>
                  <a:pt x="15342" y="4707"/>
                </a:lnTo>
                <a:lnTo>
                  <a:pt x="17118" y="4707"/>
                </a:lnTo>
                <a:lnTo>
                  <a:pt x="17118" y="8224"/>
                </a:lnTo>
                <a:close/>
              </a:path>
              <a:path fill="darkenLess" w="25532" h="21600">
                <a:moveTo>
                  <a:pt x="11844" y="14299"/>
                </a:moveTo>
                <a:lnTo>
                  <a:pt x="13689" y="14299"/>
                </a:lnTo>
                <a:lnTo>
                  <a:pt x="13689" y="17989"/>
                </a:lnTo>
                <a:lnTo>
                  <a:pt x="18075" y="17989"/>
                </a:lnTo>
                <a:lnTo>
                  <a:pt x="18075" y="10800"/>
                </a:lnTo>
                <a:lnTo>
                  <a:pt x="7457" y="10800"/>
                </a:lnTo>
                <a:lnTo>
                  <a:pt x="7457" y="17989"/>
                </a:lnTo>
                <a:lnTo>
                  <a:pt x="1184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9092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72428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934320" y="4572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45720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259092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472428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693432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45720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259092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472428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6934320" y="3809880"/>
            <a:ext cx="18637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685800"/>
            <a:ext cx="3276720" cy="990720"/>
          </a:xfrm>
          <a:custGeom>
            <a:avLst/>
            <a:gdLst>
              <a:gd name="textAreaLeft" fmla="*/ 64080 w 3276720"/>
              <a:gd name="textAreaRight" fmla="*/ 3212640 w 3276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1422" h="21600">
                <a:moveTo>
                  <a:pt x="0" y="0"/>
                </a:moveTo>
                <a:lnTo>
                  <a:pt x="71422" y="0"/>
                </a:lnTo>
                <a:lnTo>
                  <a:pt x="71422" y="21600"/>
                </a:lnTo>
                <a:lnTo>
                  <a:pt x="0" y="21600"/>
                </a:lnTo>
                <a:close/>
              </a:path>
              <a:path fill="lightenLess" w="71422" h="21600">
                <a:moveTo>
                  <a:pt x="0" y="0"/>
                </a:moveTo>
                <a:lnTo>
                  <a:pt x="71422" y="0"/>
                </a:lnTo>
                <a:lnTo>
                  <a:pt x="70022" y="1400"/>
                </a:lnTo>
                <a:lnTo>
                  <a:pt x="1400" y="1400"/>
                </a:lnTo>
                <a:close/>
              </a:path>
              <a:path fill="darken" w="71422" h="21600">
                <a:moveTo>
                  <a:pt x="71422" y="0"/>
                </a:moveTo>
                <a:lnTo>
                  <a:pt x="71422" y="21600"/>
                </a:lnTo>
                <a:lnTo>
                  <a:pt x="70022" y="20200"/>
                </a:lnTo>
                <a:lnTo>
                  <a:pt x="70022" y="1400"/>
                </a:lnTo>
                <a:close/>
              </a:path>
              <a:path fill="darkenLess" w="71422" h="21600">
                <a:moveTo>
                  <a:pt x="7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022" y="20200"/>
                </a:lnTo>
                <a:close/>
              </a:path>
              <a:path fill="lighten" w="7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ISCUTARE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LANURILOR 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685800"/>
            <a:ext cx="3581640" cy="990720"/>
          </a:xfrm>
          <a:custGeom>
            <a:avLst/>
            <a:gdLst>
              <a:gd name="textAreaLeft" fmla="*/ 64080 w 3581640"/>
              <a:gd name="textAreaRight" fmla="*/ 3517560 w 3581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8068" h="21600">
                <a:moveTo>
                  <a:pt x="0" y="0"/>
                </a:moveTo>
                <a:lnTo>
                  <a:pt x="78068" y="0"/>
                </a:lnTo>
                <a:lnTo>
                  <a:pt x="78068" y="21600"/>
                </a:lnTo>
                <a:lnTo>
                  <a:pt x="0" y="21600"/>
                </a:lnTo>
                <a:close/>
              </a:path>
              <a:path fill="lightenLess" w="78068" h="21600">
                <a:moveTo>
                  <a:pt x="0" y="0"/>
                </a:moveTo>
                <a:lnTo>
                  <a:pt x="78068" y="0"/>
                </a:lnTo>
                <a:lnTo>
                  <a:pt x="76668" y="1400"/>
                </a:lnTo>
                <a:lnTo>
                  <a:pt x="1400" y="1400"/>
                </a:lnTo>
                <a:close/>
              </a:path>
              <a:path fill="darken" w="78068" h="21600">
                <a:moveTo>
                  <a:pt x="78068" y="0"/>
                </a:moveTo>
                <a:lnTo>
                  <a:pt x="78068" y="21600"/>
                </a:lnTo>
                <a:lnTo>
                  <a:pt x="76668" y="20200"/>
                </a:lnTo>
                <a:lnTo>
                  <a:pt x="76668" y="1400"/>
                </a:lnTo>
                <a:close/>
              </a:path>
              <a:path fill="darkenLess" w="78068" h="21600">
                <a:moveTo>
                  <a:pt x="78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8" y="20200"/>
                </a:lnTo>
                <a:close/>
              </a:path>
              <a:path fill="lighten" w="78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BL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 EVALU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LEV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286000"/>
            <a:ext cx="3276720" cy="990720"/>
          </a:xfrm>
          <a:custGeom>
            <a:avLst/>
            <a:gdLst>
              <a:gd name="textAreaLeft" fmla="*/ 64080 w 3276720"/>
              <a:gd name="textAreaRight" fmla="*/ 3212640 w 3276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1422" h="21600">
                <a:moveTo>
                  <a:pt x="0" y="0"/>
                </a:moveTo>
                <a:lnTo>
                  <a:pt x="71422" y="0"/>
                </a:lnTo>
                <a:lnTo>
                  <a:pt x="71422" y="21600"/>
                </a:lnTo>
                <a:lnTo>
                  <a:pt x="0" y="21600"/>
                </a:lnTo>
                <a:close/>
              </a:path>
              <a:path fill="lightenLess" w="71422" h="21600">
                <a:moveTo>
                  <a:pt x="0" y="0"/>
                </a:moveTo>
                <a:lnTo>
                  <a:pt x="71422" y="0"/>
                </a:lnTo>
                <a:lnTo>
                  <a:pt x="70022" y="1400"/>
                </a:lnTo>
                <a:lnTo>
                  <a:pt x="1400" y="1400"/>
                </a:lnTo>
                <a:close/>
              </a:path>
              <a:path fill="darken" w="71422" h="21600">
                <a:moveTo>
                  <a:pt x="71422" y="0"/>
                </a:moveTo>
                <a:lnTo>
                  <a:pt x="71422" y="21600"/>
                </a:lnTo>
                <a:lnTo>
                  <a:pt x="70022" y="20200"/>
                </a:lnTo>
                <a:lnTo>
                  <a:pt x="70022" y="1400"/>
                </a:lnTo>
                <a:close/>
              </a:path>
              <a:path fill="darkenLess" w="71422" h="21600">
                <a:moveTo>
                  <a:pt x="7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022" y="20200"/>
                </a:lnTo>
                <a:close/>
              </a:path>
              <a:path fill="lighten" w="7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ONDAJ  PRIV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OLOS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NSTRURII  DIFERENŢ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286000"/>
            <a:ext cx="3581640" cy="990720"/>
          </a:xfrm>
          <a:custGeom>
            <a:avLst/>
            <a:gdLst>
              <a:gd name="textAreaLeft" fmla="*/ 64080 w 3581640"/>
              <a:gd name="textAreaRight" fmla="*/ 3517560 w 3581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8068" h="21600">
                <a:moveTo>
                  <a:pt x="0" y="0"/>
                </a:moveTo>
                <a:lnTo>
                  <a:pt x="78068" y="0"/>
                </a:lnTo>
                <a:lnTo>
                  <a:pt x="78068" y="21600"/>
                </a:lnTo>
                <a:lnTo>
                  <a:pt x="0" y="21600"/>
                </a:lnTo>
                <a:close/>
              </a:path>
              <a:path fill="lightenLess" w="78068" h="21600">
                <a:moveTo>
                  <a:pt x="0" y="0"/>
                </a:moveTo>
                <a:lnTo>
                  <a:pt x="78068" y="0"/>
                </a:lnTo>
                <a:lnTo>
                  <a:pt x="76668" y="1400"/>
                </a:lnTo>
                <a:lnTo>
                  <a:pt x="1400" y="1400"/>
                </a:lnTo>
                <a:close/>
              </a:path>
              <a:path fill="darken" w="78068" h="21600">
                <a:moveTo>
                  <a:pt x="78068" y="0"/>
                </a:moveTo>
                <a:lnTo>
                  <a:pt x="78068" y="21600"/>
                </a:lnTo>
                <a:lnTo>
                  <a:pt x="76668" y="20200"/>
                </a:lnTo>
                <a:lnTo>
                  <a:pt x="76668" y="1400"/>
                </a:lnTo>
                <a:close/>
              </a:path>
              <a:path fill="darkenLess" w="78068" h="21600">
                <a:moveTo>
                  <a:pt x="78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8" y="20200"/>
                </a:lnTo>
                <a:close/>
              </a:path>
              <a:path fill="lighten" w="78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IŢI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8098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ORMATIVĂ 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3809880"/>
            <a:ext cx="3505320" cy="99072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6404" h="21600">
                <a:moveTo>
                  <a:pt x="0" y="0"/>
                </a:moveTo>
                <a:lnTo>
                  <a:pt x="76404" y="0"/>
                </a:lnTo>
                <a:lnTo>
                  <a:pt x="76404" y="21600"/>
                </a:lnTo>
                <a:lnTo>
                  <a:pt x="0" y="21600"/>
                </a:lnTo>
                <a:close/>
              </a:path>
              <a:path fill="lightenLess" w="76404" h="21600">
                <a:moveTo>
                  <a:pt x="0" y="0"/>
                </a:moveTo>
                <a:lnTo>
                  <a:pt x="76404" y="0"/>
                </a:lnTo>
                <a:lnTo>
                  <a:pt x="75004" y="1400"/>
                </a:lnTo>
                <a:lnTo>
                  <a:pt x="1400" y="1400"/>
                </a:lnTo>
                <a:close/>
              </a:path>
              <a:path fill="darken" w="76404" h="21600">
                <a:moveTo>
                  <a:pt x="76404" y="0"/>
                </a:moveTo>
                <a:lnTo>
                  <a:pt x="76404" y="21600"/>
                </a:lnTo>
                <a:lnTo>
                  <a:pt x="75004" y="20200"/>
                </a:lnTo>
                <a:lnTo>
                  <a:pt x="75004" y="1400"/>
                </a:lnTo>
                <a:close/>
              </a:path>
              <a:path fill="darkenLess" w="76404" h="21600">
                <a:moveTo>
                  <a:pt x="7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04" y="20200"/>
                </a:lnTo>
                <a:close/>
              </a:path>
              <a:path fill="lighten" w="7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ORMATIVĂ 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334120"/>
            <a:ext cx="3505320" cy="99036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76432" h="21600">
                <a:moveTo>
                  <a:pt x="0" y="0"/>
                </a:moveTo>
                <a:lnTo>
                  <a:pt x="76432" y="0"/>
                </a:lnTo>
                <a:lnTo>
                  <a:pt x="76432" y="21600"/>
                </a:lnTo>
                <a:lnTo>
                  <a:pt x="0" y="21600"/>
                </a:lnTo>
                <a:close/>
              </a:path>
              <a:path fill="lightenLess" w="76432" h="21600">
                <a:moveTo>
                  <a:pt x="0" y="0"/>
                </a:moveTo>
                <a:lnTo>
                  <a:pt x="76432" y="0"/>
                </a:lnTo>
                <a:lnTo>
                  <a:pt x="75032" y="1400"/>
                </a:lnTo>
                <a:lnTo>
                  <a:pt x="1400" y="1400"/>
                </a:lnTo>
                <a:close/>
              </a:path>
              <a:path fill="darken" w="76432" h="21600">
                <a:moveTo>
                  <a:pt x="76432" y="0"/>
                </a:moveTo>
                <a:lnTo>
                  <a:pt x="76432" y="21600"/>
                </a:lnTo>
                <a:lnTo>
                  <a:pt x="75032" y="20200"/>
                </a:lnTo>
                <a:lnTo>
                  <a:pt x="75032" y="1400"/>
                </a:lnTo>
                <a:close/>
              </a:path>
              <a:path fill="darkenLess" w="76432" h="21600">
                <a:moveTo>
                  <a:pt x="76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32" y="20200"/>
                </a:lnTo>
                <a:close/>
              </a:path>
              <a:path fill="lighten" w="76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  EVALUA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I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1066680" y="541008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1" h="21600">
                <a:moveTo>
                  <a:pt x="12761" y="3837"/>
                </a:moveTo>
                <a:lnTo>
                  <a:pt x="15337" y="6448"/>
                </a:lnTo>
                <a:lnTo>
                  <a:pt x="15337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0" y="10800"/>
                </a:lnTo>
                <a:lnTo>
                  <a:pt x="18070" y="17989"/>
                </a:lnTo>
                <a:lnTo>
                  <a:pt x="7451" y="17989"/>
                </a:lnTo>
                <a:lnTo>
                  <a:pt x="7451" y="10800"/>
                </a:lnTo>
                <a:lnTo>
                  <a:pt x="5798" y="10800"/>
                </a:lnTo>
                <a:close/>
              </a:path>
              <a:path fill="darkenLess" w="25521" h="21600">
                <a:moveTo>
                  <a:pt x="15337" y="6448"/>
                </a:moveTo>
                <a:lnTo>
                  <a:pt x="15337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1" h="21600">
                <a:moveTo>
                  <a:pt x="11838" y="14299"/>
                </a:moveTo>
                <a:lnTo>
                  <a:pt x="13683" y="14299"/>
                </a:lnTo>
                <a:lnTo>
                  <a:pt x="13683" y="17989"/>
                </a:lnTo>
                <a:lnTo>
                  <a:pt x="18070" y="17989"/>
                </a:lnTo>
                <a:lnTo>
                  <a:pt x="18070" y="10800"/>
                </a:lnTo>
                <a:lnTo>
                  <a:pt x="7451" y="10800"/>
                </a:lnTo>
                <a:lnTo>
                  <a:pt x="7451" y="17989"/>
                </a:lnTo>
                <a:lnTo>
                  <a:pt x="1183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28800" y="2362320"/>
            <a:ext cx="5410080" cy="1218960"/>
          </a:xfrm>
          <a:custGeom>
            <a:avLst/>
            <a:gdLst>
              <a:gd name="textAreaLeft" fmla="*/ 78840 w 5410080"/>
              <a:gd name="textAreaRight" fmla="*/ 5331240 w 541008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95845" h="21600">
                <a:moveTo>
                  <a:pt x="0" y="0"/>
                </a:moveTo>
                <a:lnTo>
                  <a:pt x="95845" y="0"/>
                </a:lnTo>
                <a:lnTo>
                  <a:pt x="95845" y="21600"/>
                </a:lnTo>
                <a:lnTo>
                  <a:pt x="0" y="21600"/>
                </a:lnTo>
                <a:close/>
              </a:path>
              <a:path fill="lightenLess" w="95845" h="21600">
                <a:moveTo>
                  <a:pt x="0" y="0"/>
                </a:moveTo>
                <a:lnTo>
                  <a:pt x="95845" y="0"/>
                </a:lnTo>
                <a:lnTo>
                  <a:pt x="94445" y="1400"/>
                </a:lnTo>
                <a:lnTo>
                  <a:pt x="1400" y="1400"/>
                </a:lnTo>
                <a:close/>
              </a:path>
              <a:path fill="darken" w="95845" h="21600">
                <a:moveTo>
                  <a:pt x="95845" y="0"/>
                </a:moveTo>
                <a:lnTo>
                  <a:pt x="95845" y="21600"/>
                </a:lnTo>
                <a:lnTo>
                  <a:pt x="94445" y="20200"/>
                </a:lnTo>
                <a:lnTo>
                  <a:pt x="94445" y="1400"/>
                </a:lnTo>
                <a:close/>
              </a:path>
              <a:path fill="darkenLess" w="95845" h="21600">
                <a:moveTo>
                  <a:pt x="95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445" y="20200"/>
                </a:lnTo>
                <a:close/>
              </a:path>
              <a:path fill="lighten" w="95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lanu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mplementar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nit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ăţii de învăţ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685800"/>
            <a:ext cx="5486400" cy="1066680"/>
          </a:xfrm>
          <a:custGeom>
            <a:avLst/>
            <a:gdLst>
              <a:gd name="textAreaLeft" fmla="*/ 69120 w 5486400"/>
              <a:gd name="textAreaRight" fmla="*/ 5417280 w 5486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11068" h="21600">
                <a:moveTo>
                  <a:pt x="0" y="0"/>
                </a:moveTo>
                <a:lnTo>
                  <a:pt x="111068" y="0"/>
                </a:lnTo>
                <a:lnTo>
                  <a:pt x="111068" y="21600"/>
                </a:lnTo>
                <a:lnTo>
                  <a:pt x="0" y="21600"/>
                </a:lnTo>
                <a:close/>
              </a:path>
              <a:path fill="lightenLess" w="111068" h="21600">
                <a:moveTo>
                  <a:pt x="0" y="0"/>
                </a:moveTo>
                <a:lnTo>
                  <a:pt x="111068" y="0"/>
                </a:lnTo>
                <a:lnTo>
                  <a:pt x="109668" y="1400"/>
                </a:lnTo>
                <a:lnTo>
                  <a:pt x="1400" y="1400"/>
                </a:lnTo>
                <a:close/>
              </a:path>
              <a:path fill="darken" w="111068" h="21600">
                <a:moveTo>
                  <a:pt x="111068" y="0"/>
                </a:moveTo>
                <a:lnTo>
                  <a:pt x="111068" y="21600"/>
                </a:lnTo>
                <a:lnTo>
                  <a:pt x="109668" y="20200"/>
                </a:lnTo>
                <a:lnTo>
                  <a:pt x="109668" y="1400"/>
                </a:lnTo>
                <a:close/>
              </a:path>
              <a:path fill="darkenLess" w="111068" h="21600">
                <a:moveTo>
                  <a:pt x="111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668" y="20200"/>
                </a:lnTo>
                <a:close/>
              </a:path>
              <a:path fill="lighten" w="111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lanul unităţii de învăţ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7080"/>
            <a:ext cx="5486400" cy="1143000"/>
          </a:xfrm>
          <a:custGeom>
            <a:avLst/>
            <a:gdLst>
              <a:gd name="textAreaLeft" fmla="*/ 73800 w 5486400"/>
              <a:gd name="textAreaRight" fmla="*/ 5412600 w 5486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3654" h="21600">
                <a:moveTo>
                  <a:pt x="0" y="0"/>
                </a:moveTo>
                <a:lnTo>
                  <a:pt x="103654" y="0"/>
                </a:lnTo>
                <a:lnTo>
                  <a:pt x="103654" y="21600"/>
                </a:lnTo>
                <a:lnTo>
                  <a:pt x="0" y="21600"/>
                </a:lnTo>
                <a:close/>
              </a:path>
              <a:path fill="lightenLess" w="103654" h="21600">
                <a:moveTo>
                  <a:pt x="0" y="0"/>
                </a:moveTo>
                <a:lnTo>
                  <a:pt x="103654" y="0"/>
                </a:lnTo>
                <a:lnTo>
                  <a:pt x="102254" y="1400"/>
                </a:lnTo>
                <a:lnTo>
                  <a:pt x="1400" y="1400"/>
                </a:lnTo>
                <a:close/>
              </a:path>
              <a:path fill="darken" w="103654" h="21600">
                <a:moveTo>
                  <a:pt x="103654" y="0"/>
                </a:moveTo>
                <a:lnTo>
                  <a:pt x="103654" y="21600"/>
                </a:lnTo>
                <a:lnTo>
                  <a:pt x="102254" y="20200"/>
                </a:lnTo>
                <a:lnTo>
                  <a:pt x="102254" y="1400"/>
                </a:lnTo>
                <a:close/>
              </a:path>
              <a:path fill="darkenLess" w="103654" h="21600">
                <a:moveTo>
                  <a:pt x="103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54" y="20200"/>
                </a:lnTo>
                <a:close/>
              </a:path>
              <a:path fill="lighten" w="103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Bibli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1" action="ppaction://hlinksldjump"/>
          </p:cNvPr>
          <p:cNvSpPr/>
          <p:nvPr/>
        </p:nvSpPr>
        <p:spPr>
          <a:xfrm>
            <a:off x="685800" y="5715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66" h="21600">
                <a:moveTo>
                  <a:pt x="19433" y="3837"/>
                </a:moveTo>
                <a:lnTo>
                  <a:pt x="22009" y="6448"/>
                </a:lnTo>
                <a:lnTo>
                  <a:pt x="22009" y="4707"/>
                </a:lnTo>
                <a:lnTo>
                  <a:pt x="23785" y="4707"/>
                </a:lnTo>
                <a:lnTo>
                  <a:pt x="23785" y="8224"/>
                </a:lnTo>
                <a:lnTo>
                  <a:pt x="26396" y="10800"/>
                </a:lnTo>
                <a:lnTo>
                  <a:pt x="24742" y="10800"/>
                </a:lnTo>
                <a:lnTo>
                  <a:pt x="24742" y="17989"/>
                </a:lnTo>
                <a:lnTo>
                  <a:pt x="14124" y="17989"/>
                </a:lnTo>
                <a:lnTo>
                  <a:pt x="14124" y="10800"/>
                </a:lnTo>
                <a:lnTo>
                  <a:pt x="12470" y="10800"/>
                </a:lnTo>
                <a:close/>
              </a:path>
              <a:path fill="darkenLess" w="38866" h="21600">
                <a:moveTo>
                  <a:pt x="22009" y="6448"/>
                </a:moveTo>
                <a:lnTo>
                  <a:pt x="22009" y="4707"/>
                </a:lnTo>
                <a:lnTo>
                  <a:pt x="23785" y="4707"/>
                </a:lnTo>
                <a:lnTo>
                  <a:pt x="23785" y="8224"/>
                </a:lnTo>
                <a:close/>
              </a:path>
              <a:path fill="darkenLess" w="38866" h="21600">
                <a:moveTo>
                  <a:pt x="18510" y="14299"/>
                </a:moveTo>
                <a:lnTo>
                  <a:pt x="20355" y="14299"/>
                </a:lnTo>
                <a:lnTo>
                  <a:pt x="20355" y="17989"/>
                </a:lnTo>
                <a:lnTo>
                  <a:pt x="24742" y="17989"/>
                </a:lnTo>
                <a:lnTo>
                  <a:pt x="24742" y="10800"/>
                </a:lnTo>
                <a:lnTo>
                  <a:pt x="14124" y="10800"/>
                </a:lnTo>
                <a:lnTo>
                  <a:pt x="14124" y="17989"/>
                </a:lnTo>
                <a:lnTo>
                  <a:pt x="1851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2:09:36Z</dcterms:created>
  <dc:creator>slshottx</dc:creator>
  <dc:description/>
  <dc:language>en-US</dc:language>
  <cp:lastModifiedBy>acer</cp:lastModifiedBy>
  <dcterms:modified xsi:type="dcterms:W3CDTF">2010-04-21T12:52:27Z</dcterms:modified>
  <cp:revision>33</cp:revision>
  <dc:subject/>
  <dc:title>Unit Plan Portfolio</dc:title>
</cp:coreProperties>
</file>