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426-4845-4AED-8D87-6B0E455E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BA60-AD75-43DC-A59B-F118BA75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6E1-0871-4978-AB3F-4E6E3CEC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A84-CC56-4EAC-84F5-84D149AC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5E3-BC25-4A1B-80E1-8ECAF507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D97-EF58-4C98-8626-A3F01160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41A-B98A-4A5F-BB03-E52A34A3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318-1E51-48F8-8659-D49A4A5B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B15-857F-4AA9-B7A4-0833A006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C66-EF57-4468-8B76-E2FBA85A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4EA-64BF-4E64-B74E-357159B7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8EE-6877-4CDB-A88C-208E3579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9EF8-F6F6-42E0-BDC7-5564B50F2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907920"/>
            <a:ext cx="691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5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oţiuni de fonetică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2708280"/>
            <a:ext cx="6480000" cy="29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zentare realizată de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ĂZĂRESCU  GABRIELA-CRISTIAN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UNĂ  ADIN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CORŢARU  LUIS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ÎRCIUMARU  MARIN,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în cadrul proiectului 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Intel Teach-Instruire în societatea cunoaşterii"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1484280"/>
            <a:ext cx="14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U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1484280"/>
            <a:ext cx="151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ILAB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924280"/>
            <a:ext cx="158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CUVÂ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16000" y="333360"/>
            <a:ext cx="687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RUCTURA  CUVÂNTULU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170028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933720"/>
            <a:ext cx="1727280" cy="129564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393372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3933720"/>
            <a:ext cx="2016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U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5445000"/>
            <a:ext cx="2232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RĂDĂCIN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484280"/>
            <a:ext cx="1657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LITE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1700280"/>
            <a:ext cx="1081080" cy="216000"/>
          </a:xfrm>
          <a:prstGeom prst="leftArrow">
            <a:avLst>
              <a:gd name="adj1" fmla="val 50000"/>
              <a:gd name="adj2" fmla="val 125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2276640"/>
            <a:ext cx="287280" cy="504720"/>
          </a:xfrm>
          <a:prstGeom prst="downArrow">
            <a:avLst>
              <a:gd name="adj1" fmla="val 50000"/>
              <a:gd name="adj2" fmla="val 43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87280" y="476280"/>
            <a:ext cx="66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ff99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OCABULARUL  LIMBII  ROMÂN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ff99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1268280"/>
            <a:ext cx="691380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VOCABULARUL  LIMBII  ROMÂ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565360"/>
            <a:ext cx="2808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ocabular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2492280"/>
            <a:ext cx="4319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asa  vocabular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2360" y="2205000"/>
            <a:ext cx="935280" cy="1081080"/>
          </a:xfrm>
          <a:custGeom>
            <a:avLst/>
            <a:gdLst>
              <a:gd name="textAreaLeft" fmla="*/ 0 w 935280"/>
              <a:gd name="textAreaRight" fmla="*/ 935640 w 9352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3789360"/>
            <a:ext cx="15130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4437000"/>
            <a:ext cx="194292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gionalis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hais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4365720"/>
            <a:ext cx="194328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deriv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se, form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vers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4000" y="4292640"/>
            <a:ext cx="208908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 tehnici 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tiinţifici, ele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jargon, term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go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3429000"/>
            <a:ext cx="2887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826800">
            <a:off x="5724360" y="378936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015400">
            <a:off x="7235640" y="3789360"/>
            <a:ext cx="288720" cy="504720"/>
          </a:xfrm>
          <a:prstGeom prst="upArrow">
            <a:avLst>
              <a:gd name="adj1" fmla="val 50000"/>
              <a:gd name="adj2" fmla="val 43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171600">
            <a:off x="3894120" y="3850560"/>
            <a:ext cx="1223640" cy="360720"/>
          </a:xfrm>
          <a:prstGeom prst="rightArrow">
            <a:avLst>
              <a:gd name="adj1" fmla="val 50000"/>
              <a:gd name="adj2" fmla="val 84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87280" y="404640"/>
            <a:ext cx="67345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99ff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IJLOACE  DE  ÎMBOGĂŢIRE  A  VOCABULARULUI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99ff6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1341360"/>
            <a:ext cx="741672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Bookman Old Style"/>
              </a:rPr>
              <a:t>MIJLOACE  DE  ÎMBOGĂŢIRE  A  VOCABULAR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2852640"/>
            <a:ext cx="38894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N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149720"/>
            <a:ext cx="1584360" cy="208908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2089080"/>
              <a:gd name="textAreaBottom" fmla="*/ 2012040 h 2089080"/>
            </a:gdLst>
            <a:ahLst/>
            <a:rect l="textAreaLeft" t="textAreaTop" r="textAreaRight" b="textAreaBottom"/>
            <a:pathLst>
              <a:path w="21600" h="28479">
                <a:moveTo>
                  <a:pt x="3600" y="0"/>
                </a:moveTo>
                <a:arcTo wR="3600" hR="3600" stAng="16200000" swAng="-5400000"/>
                <a:lnTo>
                  <a:pt x="0" y="24879"/>
                </a:lnTo>
                <a:arcTo wR="3600" hR="3600" stAng="10800000" swAng="-5400000"/>
                <a:lnTo>
                  <a:pt x="18000" y="28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mprumutur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exicale vec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414972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riv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67640" y="4149720"/>
            <a:ext cx="1152360" cy="208764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2087640"/>
              <a:gd name="textAreaBottom" fmla="*/ 2031480 h 2087640"/>
            </a:gdLst>
            <a:ahLst/>
            <a:rect l="textAreaLeft" t="textAreaTop" r="textAreaRight" b="textAreaBottom"/>
            <a:pathLst>
              <a:path w="21600" h="39126">
                <a:moveTo>
                  <a:pt x="3600" y="0"/>
                </a:moveTo>
                <a:arcTo wR="3600" hR="3600" stAng="16200000" swAng="-5400000"/>
                <a:lnTo>
                  <a:pt x="0" y="35526"/>
                </a:lnTo>
                <a:arcTo wR="3600" hR="3600" stAng="10800000" swAng="-5400000"/>
                <a:lnTo>
                  <a:pt x="18000" y="39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alcur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ingvi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149720"/>
            <a:ext cx="1440000" cy="20876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087640"/>
              <a:gd name="textAreaBottom" fmla="*/ 2017440 h 2087640"/>
            </a:gdLst>
            <a:ahLst/>
            <a:rect l="textAreaLeft" t="textAreaTop" r="textAreaRight" b="textAreaBottom"/>
            <a:pathLst>
              <a:path w="21600" h="31312">
                <a:moveTo>
                  <a:pt x="3600" y="0"/>
                </a:moveTo>
                <a:arcTo wR="3600" hR="3600" stAng="16200000" swAng="-5400000"/>
                <a:lnTo>
                  <a:pt x="0" y="27712"/>
                </a:lnTo>
                <a:arcTo wR="3600" hR="3600" stAng="10800000" swAng="-5400000"/>
                <a:lnTo>
                  <a:pt x="18000" y="313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chimb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orfolog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Conversiu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4149720"/>
            <a:ext cx="1513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ne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285264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X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2060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2060640"/>
            <a:ext cx="358560" cy="720720"/>
          </a:xfrm>
          <a:prstGeom prst="upArrow">
            <a:avLst>
              <a:gd name="adj1" fmla="val 50000"/>
              <a:gd name="adj2" fmla="val 50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171000">
            <a:off x="1224720" y="3607200"/>
            <a:ext cx="574920" cy="360360"/>
          </a:xfrm>
          <a:prstGeom prst="rightArrow">
            <a:avLst>
              <a:gd name="adj1" fmla="val 50000"/>
              <a:gd name="adj2" fmla="val 39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357336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3399000">
            <a:off x="4233600" y="3597120"/>
            <a:ext cx="577800" cy="380880"/>
          </a:xfrm>
          <a:prstGeom prst="leftArrow">
            <a:avLst>
              <a:gd name="adj1" fmla="val 50000"/>
              <a:gd name="adj2" fmla="val 37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826200">
            <a:off x="6443640" y="357336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230800">
            <a:off x="8027640" y="357300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332000" y="476280"/>
            <a:ext cx="66247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NSUL  CUVINTELOR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41300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125360"/>
          <a:ext cx="7632720" cy="4195440"/>
        </p:xfrm>
        <a:graphic>
          <a:graphicData uri="http://schemas.openxmlformats.org/drawingml/2006/table">
            <a:tbl>
              <a:tblPr/>
              <a:tblGrid>
                <a:gridCol w="2950920"/>
                <a:gridCol w="2449440"/>
                <a:gridCol w="2232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FOR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ENSU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l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e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imativ acee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ifer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900000" y="5516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LEONASM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- Greşeală de  expri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547640" y="333360"/>
            <a:ext cx="5904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APITULARE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19700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13372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lab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â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4221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5373720"/>
            <a:ext cx="1368360" cy="792000"/>
          </a:xfrm>
          <a:custGeom>
            <a:avLst/>
            <a:gdLst>
              <a:gd name="textAreaLeft" fmla="*/ 93240 w 1368360"/>
              <a:gd name="textAreaRight" fmla="*/ 1275120 w 136836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373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3712" y="21600"/>
                </a:lnTo>
                <a:arcTo wR="3600" hR="3600" stAng="10800000" swAng="5400000"/>
                <a:lnTo>
                  <a:pt x="3731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5373720"/>
            <a:ext cx="1368360" cy="792000"/>
          </a:xfrm>
          <a:custGeom>
            <a:avLst/>
            <a:gdLst>
              <a:gd name="textAreaLeft" fmla="*/ 93240 w 1368360"/>
              <a:gd name="textAreaRight" fmla="*/ 1275120 w 136836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373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3712" y="21600"/>
                </a:lnTo>
                <a:arcTo wR="3600" hR="3600" stAng="10800000" swAng="5400000"/>
                <a:lnTo>
                  <a:pt x="3731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1197000"/>
            <a:ext cx="1513080" cy="720720"/>
          </a:xfrm>
          <a:custGeom>
            <a:avLst/>
            <a:gdLst>
              <a:gd name="textAreaLeft" fmla="*/ 84960 w 1513080"/>
              <a:gd name="textAreaRight" fmla="*/ 1428120 w 151308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453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1735" y="21600"/>
                </a:lnTo>
                <a:arcTo wR="3600" hR="3600" stAng="10800000" swAng="5400000"/>
                <a:lnTo>
                  <a:pt x="4533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2492280"/>
            <a:ext cx="1512720" cy="865440"/>
          </a:xfrm>
          <a:custGeom>
            <a:avLst/>
            <a:gdLst>
              <a:gd name="textAreaLeft" fmla="*/ 101880 w 1512720"/>
              <a:gd name="textAreaRight" fmla="*/ 1410840 w 1512720"/>
              <a:gd name="textAreaTop" fmla="*/ 101880 h 865440"/>
              <a:gd name="textAreaBottom" fmla="*/ 763560 h 865440"/>
            </a:gdLst>
            <a:ahLst/>
            <a:rect l="textAreaLeft" t="textAreaTop" r="textAreaRight" b="textAreaBottom"/>
            <a:pathLst>
              <a:path w="377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148" y="21600"/>
                </a:lnTo>
                <a:arcTo wR="3600" hR="3600" stAng="10800000" swAng="5400000"/>
                <a:lnTo>
                  <a:pt x="37748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1197000"/>
            <a:ext cx="2232360" cy="720720"/>
          </a:xfrm>
          <a:custGeom>
            <a:avLst/>
            <a:gdLst>
              <a:gd name="textAreaLeft" fmla="*/ 84960 w 2232360"/>
              <a:gd name="textAreaRight" fmla="*/ 2147400 w 223236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6688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3281" y="21600"/>
                </a:lnTo>
                <a:arcTo wR="3600" hR="3600" stAng="10800000" swAng="5400000"/>
                <a:lnTo>
                  <a:pt x="66881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asa  vocabula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2421000"/>
            <a:ext cx="1582560" cy="1079280"/>
          </a:xfrm>
          <a:custGeom>
            <a:avLst/>
            <a:gdLst>
              <a:gd name="textAreaLeft" fmla="*/ 127080 w 1582560"/>
              <a:gd name="textAreaRight" fmla="*/ 1455480 w 158256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316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069" y="21600"/>
                </a:lnTo>
                <a:arcTo wR="3600" hR="3600" stAng="10800000" swAng="5400000"/>
                <a:lnTo>
                  <a:pt x="31669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gional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ha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2421000"/>
            <a:ext cx="1584360" cy="1800000"/>
          </a:xfrm>
          <a:custGeom>
            <a:avLst/>
            <a:gdLst>
              <a:gd name="textAreaLeft" fmla="*/ 186480 w 1584360"/>
              <a:gd name="textAreaRight" fmla="*/ 1397880 w 1584360"/>
              <a:gd name="textAreaTop" fmla="*/ 186480 h 1800000"/>
              <a:gd name="textAreaBottom" fmla="*/ 1613520 h 1800000"/>
            </a:gdLst>
            <a:ahLst/>
            <a:rect l="textAreaLeft" t="textAreaTop" r="textAreaRight" b="textAreaBottom"/>
            <a:pathLst>
              <a:path w="21600" h="24539">
                <a:moveTo>
                  <a:pt x="3600" y="0"/>
                </a:moveTo>
                <a:arcTo wR="3600" hR="3600" stAng="0" swAng="5400000"/>
                <a:lnTo>
                  <a:pt x="0" y="20939"/>
                </a:lnTo>
                <a:arcTo wR="3600" hR="3600" stAng="16200000" swAng="5400000"/>
                <a:lnTo>
                  <a:pt x="18000" y="2453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riv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ormate p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vers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2421000"/>
            <a:ext cx="1584360" cy="2016000"/>
          </a:xfrm>
          <a:custGeom>
            <a:avLst/>
            <a:gdLst>
              <a:gd name="textAreaLeft" fmla="*/ 186480 w 1584360"/>
              <a:gd name="textAreaRight" fmla="*/ 1397880 w 1584360"/>
              <a:gd name="textAreaTop" fmla="*/ 186480 h 2016000"/>
              <a:gd name="textAreaBottom" fmla="*/ 1829520 h 2016000"/>
            </a:gdLst>
            <a:ahLst/>
            <a:rect l="textAreaLeft" t="textAreaTop" r="textAreaRight" b="textAreaBottom"/>
            <a:pathLst>
              <a:path w="21600" h="27483">
                <a:moveTo>
                  <a:pt x="3600" y="0"/>
                </a:moveTo>
                <a:arcTo wR="3600" hR="3600" stAng="0" swAng="5400000"/>
                <a:lnTo>
                  <a:pt x="0" y="23883"/>
                </a:lnTo>
                <a:arcTo wR="3600" hR="3600" stAng="16200000" swAng="5400000"/>
                <a:lnTo>
                  <a:pt x="18000" y="2748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hnici 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tiinţific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lement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jarg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go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4653000"/>
            <a:ext cx="4032360" cy="431640"/>
          </a:xfrm>
          <a:custGeom>
            <a:avLst/>
            <a:gdLst>
              <a:gd name="textAreaLeft" fmla="*/ 50760 w 4032360"/>
              <a:gd name="textAreaRight" fmla="*/ 3981600 w 403236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20163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98036" y="21600"/>
                </a:lnTo>
                <a:arcTo wR="3600" hR="3600" stAng="10800000" swAng="5400000"/>
                <a:lnTo>
                  <a:pt x="201636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nsul  cuvint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n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nt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59640" y="5445000"/>
            <a:ext cx="1079280" cy="432000"/>
          </a:xfrm>
          <a:custGeom>
            <a:avLst/>
            <a:gdLst>
              <a:gd name="textAreaLeft" fmla="*/ 50760 w 1079280"/>
              <a:gd name="textAreaRight" fmla="*/ 1028520 w 107928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3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37" y="21600"/>
                </a:lnTo>
                <a:arcTo wR="3600" hR="3600" stAng="10800000" swAng="5400000"/>
                <a:lnTo>
                  <a:pt x="53937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m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508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r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4360" y="6165720"/>
            <a:ext cx="1295640" cy="432000"/>
          </a:xfrm>
          <a:custGeom>
            <a:avLst/>
            <a:gdLst>
              <a:gd name="textAreaLeft" fmla="*/ 50760 w 1295640"/>
              <a:gd name="textAreaRight" fmla="*/ 1244880 w 1295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647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1146" y="21600"/>
                </a:lnTo>
                <a:arcTo wR="3600" hR="3600" stAng="10800000" swAng="5400000"/>
                <a:lnTo>
                  <a:pt x="64746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leon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11280" y="472428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472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91636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643280" y="1988640"/>
            <a:ext cx="144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7236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587640" y="198864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11640" y="5157720"/>
            <a:ext cx="158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08720" y="515772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803640" y="5157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7093080" y="515772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372360" y="515772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17:20Z</dcterms:created>
  <dc:creator>acer</dc:creator>
  <dc:description/>
  <dc:language>en-US</dc:language>
  <cp:lastModifiedBy>acer</cp:lastModifiedBy>
  <dcterms:modified xsi:type="dcterms:W3CDTF">2010-04-09T13:16:41Z</dcterms:modified>
  <cp:revision>14</cp:revision>
  <dc:subject/>
  <dc:title>Slide 1</dc:title>
</cp:coreProperties>
</file>