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76F7-2988-4BE2-A35A-F6A568C7F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CD39-E6FC-4EF6-AF24-DB5C535A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CED3-8B39-49F8-920F-ADE27EC4B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02CB-E10A-4389-BE46-761E2A025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83DD-F624-45E3-820E-DE9A842D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C4A4-C30A-4008-96F4-20E1E14B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C050-FA2E-4039-9983-14E811C7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3D9C-B49F-46DE-84D7-C230918F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19EA-BD40-4E45-9EEF-787B5EC1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E993-EBF0-4527-AA6B-7E1A497A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0D08-F46A-4D9D-BFB7-A84318CE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9F39-EF06-4D29-A457-C56FEBBA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8A5C-F483-49FF-818A-4CE4EB7A9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16000" y="907920"/>
            <a:ext cx="6913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59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Noţiuni de fonetică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6699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32000" y="2708280"/>
            <a:ext cx="6480000" cy="295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rezentare realizată de</a:t>
            </a:r>
            <a:endParaRPr b="1" i="1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ĂZĂRESCU  GABRIELA-CRISTIANA</a:t>
            </a:r>
            <a:endParaRPr b="1" i="1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RUNĂ  ADINA</a:t>
            </a:r>
            <a:endParaRPr b="1" i="1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CORŢARU  LUISA</a:t>
            </a:r>
            <a:endParaRPr b="1" i="1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ÎRCIUMARU  MARIN,</a:t>
            </a:r>
            <a:endParaRPr b="1" i="1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în cadrul proiectului </a:t>
            </a:r>
            <a:endParaRPr b="1" i="1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Intel Teach-Instruire în societatea cunoaşterii"</a:t>
            </a:r>
            <a:endParaRPr b="1" i="1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00000" y="1484280"/>
            <a:ext cx="14414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Bookman Old Style"/>
              </a:rPr>
              <a:t>SU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5280" y="1484280"/>
            <a:ext cx="15130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Bookman Old Style"/>
              </a:rPr>
              <a:t>SILAB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2924280"/>
            <a:ext cx="1584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Bookman Old Style"/>
              </a:rPr>
              <a:t>CUVÂ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16000" y="333360"/>
            <a:ext cx="687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TRUCTURA  CUVÂNTULUI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2484360" y="1700280"/>
            <a:ext cx="1079640" cy="216000"/>
          </a:xfrm>
          <a:prstGeom prst="rightArrow">
            <a:avLst>
              <a:gd name="adj1" fmla="val 50000"/>
              <a:gd name="adj2" fmla="val 124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933720"/>
            <a:ext cx="1727280" cy="129564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32000" y="3933720"/>
            <a:ext cx="194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Bookman Old Style"/>
              </a:rPr>
              <a:t>PREF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24360" y="3933720"/>
            <a:ext cx="2016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Bookman Old Style"/>
              </a:rPr>
              <a:t>SUF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5445000"/>
            <a:ext cx="2232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Bookman Old Style"/>
              </a:rPr>
              <a:t>RĂDĂCIN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43640" y="1484280"/>
            <a:ext cx="16574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Bookman Old Style"/>
              </a:rPr>
              <a:t>LITER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19640" y="1700280"/>
            <a:ext cx="1081080" cy="216000"/>
          </a:xfrm>
          <a:prstGeom prst="leftArrow">
            <a:avLst>
              <a:gd name="adj1" fmla="val 50000"/>
              <a:gd name="adj2" fmla="val 1251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11640" y="2276640"/>
            <a:ext cx="287280" cy="504720"/>
          </a:xfrm>
          <a:prstGeom prst="downArrow">
            <a:avLst>
              <a:gd name="adj1" fmla="val 50000"/>
              <a:gd name="adj2" fmla="val 439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187280" y="476280"/>
            <a:ext cx="6697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333399">
                        <a:alpha val="50196"/>
                      </a:srgbClr>
                    </a:gs>
                    <a:gs pos="100000">
                      <a:srgbClr val="ff99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VOCABULARUL  LIMBII  ROMÂN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333399">
                      <a:alpha val="50196"/>
                    </a:srgbClr>
                  </a:gs>
                  <a:gs pos="100000">
                    <a:srgbClr val="ff99cc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1187280" y="1268280"/>
            <a:ext cx="691380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VOCABULARUL  LIMBII  ROMÂ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2565360"/>
            <a:ext cx="280836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Vocabularu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funda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2492280"/>
            <a:ext cx="431928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asa  vocabularul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92360" y="2205000"/>
            <a:ext cx="935280" cy="1081080"/>
          </a:xfrm>
          <a:custGeom>
            <a:avLst/>
            <a:gdLst>
              <a:gd name="textAreaLeft" fmla="*/ 0 w 935280"/>
              <a:gd name="textAreaRight" fmla="*/ 935640 w 93528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7280" y="3789360"/>
            <a:ext cx="151308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vi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baz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4437000"/>
            <a:ext cx="1942920" cy="180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Regionalism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rhaism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Neologis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4365720"/>
            <a:ext cx="1943280" cy="18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vinte deriv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ompuse, form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r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onversi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04000" y="4292640"/>
            <a:ext cx="2089080" cy="19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rmeni tehnici ş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tiinţifici, ele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e jargon, term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rgot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3429000"/>
            <a:ext cx="28872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826800">
            <a:off x="5724360" y="3789360"/>
            <a:ext cx="360360" cy="503280"/>
          </a:xfrm>
          <a:prstGeom prst="upArrow">
            <a:avLst>
              <a:gd name="adj1" fmla="val 50000"/>
              <a:gd name="adj2" fmla="val 349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0015400">
            <a:off x="7235640" y="3789360"/>
            <a:ext cx="288720" cy="504720"/>
          </a:xfrm>
          <a:prstGeom prst="upArrow">
            <a:avLst>
              <a:gd name="adj1" fmla="val 50000"/>
              <a:gd name="adj2" fmla="val 437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8171600">
            <a:off x="3894120" y="3850560"/>
            <a:ext cx="1223640" cy="360720"/>
          </a:xfrm>
          <a:prstGeom prst="rightArrow">
            <a:avLst>
              <a:gd name="adj1" fmla="val 50000"/>
              <a:gd name="adj2" fmla="val 848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187280" y="404640"/>
            <a:ext cx="67345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333399">
                        <a:alpha val="50196"/>
                      </a:srgbClr>
                    </a:gs>
                    <a:gs pos="100000">
                      <a:srgbClr val="99ff66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IJLOACE  DE  ÎMBOGĂŢIRE  A  VOCABULARULUI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333399">
                      <a:alpha val="50196"/>
                    </a:srgbClr>
                  </a:gs>
                  <a:gs pos="100000">
                    <a:srgbClr val="99ff66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" name=""/>
          <p:cNvSpPr/>
          <p:nvPr/>
        </p:nvSpPr>
        <p:spPr>
          <a:xfrm>
            <a:off x="1042920" y="1341360"/>
            <a:ext cx="741672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Bookman Old Style"/>
              </a:rPr>
              <a:t>MIJLOACE  DE  ÎMBOGĂŢIRE  A  VOCABULAR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6920" y="2852640"/>
            <a:ext cx="38894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INTER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149720"/>
            <a:ext cx="1584360" cy="208908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2089080"/>
              <a:gd name="textAreaBottom" fmla="*/ 2012040 h 2089080"/>
            </a:gdLst>
            <a:ahLst/>
            <a:rect l="textAreaLeft" t="textAreaTop" r="textAreaRight" b="textAreaBottom"/>
            <a:pathLst>
              <a:path w="21600" h="28479">
                <a:moveTo>
                  <a:pt x="3600" y="0"/>
                </a:moveTo>
                <a:arcTo wR="3600" hR="3600" stAng="16200000" swAng="-5400000"/>
                <a:lnTo>
                  <a:pt x="0" y="24879"/>
                </a:lnTo>
                <a:arcTo wR="3600" hR="3600" stAng="10800000" swAng="-5400000"/>
                <a:lnTo>
                  <a:pt x="18000" y="284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mprumutur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exicale vech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Neologism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4149720"/>
            <a:ext cx="15843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eriv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67640" y="4149720"/>
            <a:ext cx="1152360" cy="2087640"/>
          </a:xfrm>
          <a:custGeom>
            <a:avLst/>
            <a:gdLst>
              <a:gd name="textAreaLeft" fmla="*/ 56160 w 1152360"/>
              <a:gd name="textAreaRight" fmla="*/ 1096200 w 1152360"/>
              <a:gd name="textAreaTop" fmla="*/ 56160 h 2087640"/>
              <a:gd name="textAreaBottom" fmla="*/ 2031480 h 2087640"/>
            </a:gdLst>
            <a:ahLst/>
            <a:rect l="textAreaLeft" t="textAreaTop" r="textAreaRight" b="textAreaBottom"/>
            <a:pathLst>
              <a:path w="21600" h="39126">
                <a:moveTo>
                  <a:pt x="3600" y="0"/>
                </a:moveTo>
                <a:arcTo wR="3600" hR="3600" stAng="16200000" swAng="-5400000"/>
                <a:lnTo>
                  <a:pt x="0" y="35526"/>
                </a:lnTo>
                <a:arcTo wR="3600" hR="3600" stAng="10800000" swAng="-5400000"/>
                <a:lnTo>
                  <a:pt x="18000" y="391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alcur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ingvis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40000" y="4149720"/>
            <a:ext cx="1440000" cy="208764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087640"/>
              <a:gd name="textAreaBottom" fmla="*/ 2017440 h 2087640"/>
            </a:gdLst>
            <a:ahLst/>
            <a:rect l="textAreaLeft" t="textAreaTop" r="textAreaRight" b="textAreaBottom"/>
            <a:pathLst>
              <a:path w="21600" h="31312">
                <a:moveTo>
                  <a:pt x="3600" y="0"/>
                </a:moveTo>
                <a:arcTo wR="3600" hR="3600" stAng="16200000" swAng="-5400000"/>
                <a:lnTo>
                  <a:pt x="0" y="27712"/>
                </a:lnTo>
                <a:arcTo wR="3600" hR="3600" stAng="10800000" swAng="-5400000"/>
                <a:lnTo>
                  <a:pt x="18000" y="313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chimb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las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morfolog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(Conversiu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4149720"/>
            <a:ext cx="151308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ompune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12000" y="2852640"/>
            <a:ext cx="259236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EXTER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59280" y="20606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2060640"/>
            <a:ext cx="358560" cy="720720"/>
          </a:xfrm>
          <a:prstGeom prst="upArrow">
            <a:avLst>
              <a:gd name="adj1" fmla="val 50000"/>
              <a:gd name="adj2" fmla="val 502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8171000">
            <a:off x="1224720" y="3607200"/>
            <a:ext cx="574920" cy="360360"/>
          </a:xfrm>
          <a:prstGeom prst="rightArrow">
            <a:avLst>
              <a:gd name="adj1" fmla="val 50000"/>
              <a:gd name="adj2" fmla="val 398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43280" y="3573360"/>
            <a:ext cx="360360" cy="503280"/>
          </a:xfrm>
          <a:prstGeom prst="upArrow">
            <a:avLst>
              <a:gd name="adj1" fmla="val 50000"/>
              <a:gd name="adj2" fmla="val 349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3399000">
            <a:off x="4233600" y="3597120"/>
            <a:ext cx="577800" cy="380880"/>
          </a:xfrm>
          <a:prstGeom prst="leftArrow">
            <a:avLst>
              <a:gd name="adj1" fmla="val 50000"/>
              <a:gd name="adj2" fmla="val 379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826200">
            <a:off x="6443640" y="3573360"/>
            <a:ext cx="289080" cy="503280"/>
          </a:xfrm>
          <a:prstGeom prst="upArrow">
            <a:avLst>
              <a:gd name="adj1" fmla="val 50000"/>
              <a:gd name="adj2" fmla="val 435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0230800">
            <a:off x="8027640" y="3573000"/>
            <a:ext cx="289080" cy="503280"/>
          </a:xfrm>
          <a:prstGeom prst="upArrow">
            <a:avLst>
              <a:gd name="adj1" fmla="val 50000"/>
              <a:gd name="adj2" fmla="val 435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332000" y="476280"/>
            <a:ext cx="662472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0000">
                        <a:alpha val="50196"/>
                      </a:srgbClr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NSUL  CUVINTELOR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826920" y="141300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55640" y="1125360"/>
          <a:ext cx="7632720" cy="4195440"/>
        </p:xfrm>
        <a:graphic>
          <a:graphicData uri="http://schemas.openxmlformats.org/drawingml/2006/table">
            <a:tbl>
              <a:tblPr/>
              <a:tblGrid>
                <a:gridCol w="2950920"/>
                <a:gridCol w="2449440"/>
                <a:gridCol w="2232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FORM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SENSU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ON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erit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laş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ON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erit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ON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eaş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er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ON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oximativ aceeaş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difer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900000" y="5516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PLEONASMU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- Greşeală de  exprim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547640" y="333360"/>
            <a:ext cx="590400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333399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CAPITULARE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333399">
                      <a:alpha val="50196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1197000"/>
            <a:ext cx="1079640" cy="431640"/>
          </a:xfrm>
          <a:custGeom>
            <a:avLst/>
            <a:gdLst>
              <a:gd name="textAreaLeft" fmla="*/ 50760 w 1079640"/>
              <a:gd name="textAreaRight" fmla="*/ 1028880 w 1079640"/>
              <a:gd name="textAreaTop" fmla="*/ 50760 h 431640"/>
              <a:gd name="textAreaBottom" fmla="*/ 380880 h 431640"/>
            </a:gdLst>
            <a:ahLst/>
            <a:rect l="textAreaLeft" t="textAreaTop" r="textAreaRight" b="textAreaBottom"/>
            <a:pathLst>
              <a:path w="540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400" y="21600"/>
                </a:lnTo>
                <a:arcTo wR="3600" hR="3600" stAng="10800000" swAng="5400000"/>
                <a:lnTo>
                  <a:pt x="540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u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2133720"/>
            <a:ext cx="1079640" cy="431640"/>
          </a:xfrm>
          <a:custGeom>
            <a:avLst/>
            <a:gdLst>
              <a:gd name="textAreaLeft" fmla="*/ 50760 w 1079640"/>
              <a:gd name="textAreaRight" fmla="*/ 1028880 w 1079640"/>
              <a:gd name="textAreaTop" fmla="*/ 50760 h 431640"/>
              <a:gd name="textAreaBottom" fmla="*/ 380880 h 431640"/>
            </a:gdLst>
            <a:ahLst/>
            <a:rect l="textAreaLeft" t="textAreaTop" r="textAreaRight" b="textAreaBottom"/>
            <a:pathLst>
              <a:path w="540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400" y="21600"/>
                </a:lnTo>
                <a:arcTo wR="3600" hR="3600" stAng="10800000" swAng="5400000"/>
                <a:lnTo>
                  <a:pt x="540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ilab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3141720"/>
            <a:ext cx="1079640" cy="431640"/>
          </a:xfrm>
          <a:custGeom>
            <a:avLst/>
            <a:gdLst>
              <a:gd name="textAreaLeft" fmla="*/ 50760 w 1079640"/>
              <a:gd name="textAreaRight" fmla="*/ 1028880 w 1079640"/>
              <a:gd name="textAreaTop" fmla="*/ 50760 h 431640"/>
              <a:gd name="textAreaBottom" fmla="*/ 380880 h 431640"/>
            </a:gdLst>
            <a:ahLst/>
            <a:rect l="textAreaLeft" t="textAreaTop" r="textAreaRight" b="textAreaBottom"/>
            <a:pathLst>
              <a:path w="540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400" y="21600"/>
                </a:lnTo>
                <a:arcTo wR="3600" hR="3600" stAng="10800000" swAng="5400000"/>
                <a:lnTo>
                  <a:pt x="540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vâ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4221000"/>
            <a:ext cx="1079640" cy="432000"/>
          </a:xfrm>
          <a:custGeom>
            <a:avLst/>
            <a:gdLst>
              <a:gd name="textAreaLeft" fmla="*/ 50760 w 1079640"/>
              <a:gd name="textAreaRight" fmla="*/ 1028880 w 107964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5395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355" y="21600"/>
                </a:lnTo>
                <a:arcTo wR="3600" hR="3600" stAng="10800000" swAng="5400000"/>
                <a:lnTo>
                  <a:pt x="53955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Vocab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5373720"/>
            <a:ext cx="1368360" cy="792000"/>
          </a:xfrm>
          <a:custGeom>
            <a:avLst/>
            <a:gdLst>
              <a:gd name="textAreaLeft" fmla="*/ 93240 w 1368360"/>
              <a:gd name="textAreaRight" fmla="*/ 1275120 w 1368360"/>
              <a:gd name="textAreaTop" fmla="*/ 93240 h 792000"/>
              <a:gd name="textAreaBottom" fmla="*/ 698760 h 792000"/>
            </a:gdLst>
            <a:ahLst/>
            <a:rect l="textAreaLeft" t="textAreaTop" r="textAreaRight" b="textAreaBottom"/>
            <a:pathLst>
              <a:path w="373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3712" y="21600"/>
                </a:lnTo>
                <a:arcTo wR="3600" hR="3600" stAng="10800000" swAng="5400000"/>
                <a:lnTo>
                  <a:pt x="37312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Vocabular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funda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92360" y="5373720"/>
            <a:ext cx="1368360" cy="792000"/>
          </a:xfrm>
          <a:custGeom>
            <a:avLst/>
            <a:gdLst>
              <a:gd name="textAreaLeft" fmla="*/ 93240 w 1368360"/>
              <a:gd name="textAreaRight" fmla="*/ 1275120 w 1368360"/>
              <a:gd name="textAreaTop" fmla="*/ 93240 h 792000"/>
              <a:gd name="textAreaBottom" fmla="*/ 698760 h 792000"/>
            </a:gdLst>
            <a:ahLst/>
            <a:rect l="textAreaLeft" t="textAreaTop" r="textAreaRight" b="textAreaBottom"/>
            <a:pathLst>
              <a:path w="373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3712" y="21600"/>
                </a:lnTo>
                <a:arcTo wR="3600" hR="3600" stAng="10800000" swAng="5400000"/>
                <a:lnTo>
                  <a:pt x="37312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Ma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vocabular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68360" y="1197000"/>
            <a:ext cx="1513080" cy="720720"/>
          </a:xfrm>
          <a:custGeom>
            <a:avLst/>
            <a:gdLst>
              <a:gd name="textAreaLeft" fmla="*/ 84960 w 1513080"/>
              <a:gd name="textAreaRight" fmla="*/ 1428120 w 1513080"/>
              <a:gd name="textAreaTop" fmla="*/ 84960 h 720720"/>
              <a:gd name="textAreaBottom" fmla="*/ 635760 h 720720"/>
            </a:gdLst>
            <a:ahLst/>
            <a:rect l="textAreaLeft" t="textAreaTop" r="textAreaRight" b="textAreaBottom"/>
            <a:pathLst>
              <a:path w="4533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1735" y="21600"/>
                </a:lnTo>
                <a:arcTo wR="3600" hR="3600" stAng="10800000" swAng="5400000"/>
                <a:lnTo>
                  <a:pt x="45335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Vocabular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funda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95640" y="2492280"/>
            <a:ext cx="1512720" cy="865440"/>
          </a:xfrm>
          <a:custGeom>
            <a:avLst/>
            <a:gdLst>
              <a:gd name="textAreaLeft" fmla="*/ 101880 w 1512720"/>
              <a:gd name="textAreaRight" fmla="*/ 1410840 w 1512720"/>
              <a:gd name="textAreaTop" fmla="*/ 101880 h 865440"/>
              <a:gd name="textAreaBottom" fmla="*/ 763560 h 865440"/>
            </a:gdLst>
            <a:ahLst/>
            <a:rect l="textAreaLeft" t="textAreaTop" r="textAreaRight" b="textAreaBottom"/>
            <a:pathLst>
              <a:path w="3774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4148" y="21600"/>
                </a:lnTo>
                <a:arcTo wR="3600" hR="3600" stAng="10800000" swAng="5400000"/>
                <a:lnTo>
                  <a:pt x="37748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vi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baz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64000" y="1197000"/>
            <a:ext cx="2232360" cy="720720"/>
          </a:xfrm>
          <a:custGeom>
            <a:avLst/>
            <a:gdLst>
              <a:gd name="textAreaLeft" fmla="*/ 84960 w 2232360"/>
              <a:gd name="textAreaRight" fmla="*/ 2147400 w 2232360"/>
              <a:gd name="textAreaTop" fmla="*/ 84960 h 720720"/>
              <a:gd name="textAreaBottom" fmla="*/ 635760 h 720720"/>
            </a:gdLst>
            <a:ahLst/>
            <a:rect l="textAreaLeft" t="textAreaTop" r="textAreaRight" b="textAreaBottom"/>
            <a:pathLst>
              <a:path w="6688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3281" y="21600"/>
                </a:lnTo>
                <a:arcTo wR="3600" hR="3600" stAng="10800000" swAng="5400000"/>
                <a:lnTo>
                  <a:pt x="66881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Masa  vocabular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24360" y="2421000"/>
            <a:ext cx="1582560" cy="1079280"/>
          </a:xfrm>
          <a:custGeom>
            <a:avLst/>
            <a:gdLst>
              <a:gd name="textAreaLeft" fmla="*/ 127080 w 1582560"/>
              <a:gd name="textAreaRight" fmla="*/ 1455480 w 1582560"/>
              <a:gd name="textAreaTop" fmla="*/ 127080 h 1079280"/>
              <a:gd name="textAreaBottom" fmla="*/ 952200 h 1079280"/>
            </a:gdLst>
            <a:ahLst/>
            <a:rect l="textAreaLeft" t="textAreaTop" r="textAreaRight" b="textAreaBottom"/>
            <a:pathLst>
              <a:path w="3166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8069" y="21600"/>
                </a:lnTo>
                <a:arcTo wR="3600" hR="3600" stAng="10800000" swAng="5400000"/>
                <a:lnTo>
                  <a:pt x="31669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Regionalis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rhai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Neologi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51640" y="2421000"/>
            <a:ext cx="1584360" cy="1800000"/>
          </a:xfrm>
          <a:custGeom>
            <a:avLst/>
            <a:gdLst>
              <a:gd name="textAreaLeft" fmla="*/ 186480 w 1584360"/>
              <a:gd name="textAreaRight" fmla="*/ 1397880 w 1584360"/>
              <a:gd name="textAreaTop" fmla="*/ 186480 h 1800000"/>
              <a:gd name="textAreaBottom" fmla="*/ 1613520 h 1800000"/>
            </a:gdLst>
            <a:ahLst/>
            <a:rect l="textAreaLeft" t="textAreaTop" r="textAreaRight" b="textAreaBottom"/>
            <a:pathLst>
              <a:path w="21600" h="24539">
                <a:moveTo>
                  <a:pt x="3600" y="0"/>
                </a:moveTo>
                <a:arcTo wR="3600" hR="3600" stAng="0" swAng="5400000"/>
                <a:lnTo>
                  <a:pt x="0" y="20939"/>
                </a:lnTo>
                <a:arcTo wR="3600" hR="3600" stAng="16200000" swAng="5400000"/>
                <a:lnTo>
                  <a:pt x="18000" y="24539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vi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eriva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ompus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formate p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onversi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2421000"/>
            <a:ext cx="1584360" cy="2016000"/>
          </a:xfrm>
          <a:custGeom>
            <a:avLst/>
            <a:gdLst>
              <a:gd name="textAreaLeft" fmla="*/ 186480 w 1584360"/>
              <a:gd name="textAreaRight" fmla="*/ 1397880 w 1584360"/>
              <a:gd name="textAreaTop" fmla="*/ 186480 h 2016000"/>
              <a:gd name="textAreaBottom" fmla="*/ 1829520 h 2016000"/>
            </a:gdLst>
            <a:ahLst/>
            <a:rect l="textAreaLeft" t="textAreaTop" r="textAreaRight" b="textAreaBottom"/>
            <a:pathLst>
              <a:path w="21600" h="27483">
                <a:moveTo>
                  <a:pt x="3600" y="0"/>
                </a:moveTo>
                <a:arcTo wR="3600" hR="3600" stAng="0" swAng="5400000"/>
                <a:lnTo>
                  <a:pt x="0" y="23883"/>
                </a:lnTo>
                <a:arcTo wR="3600" hR="3600" stAng="16200000" swAng="5400000"/>
                <a:lnTo>
                  <a:pt x="18000" y="27483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rme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hnici ş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tiinţific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element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jarg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rm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rgot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56000" y="4653000"/>
            <a:ext cx="4032360" cy="431640"/>
          </a:xfrm>
          <a:custGeom>
            <a:avLst/>
            <a:gdLst>
              <a:gd name="textAreaLeft" fmla="*/ 50760 w 4032360"/>
              <a:gd name="textAreaRight" fmla="*/ 3981600 w 4032360"/>
              <a:gd name="textAreaTop" fmla="*/ 50760 h 431640"/>
              <a:gd name="textAreaBottom" fmla="*/ 380880 h 431640"/>
            </a:gdLst>
            <a:ahLst/>
            <a:rect l="textAreaLeft" t="textAreaTop" r="textAreaRight" b="textAreaBottom"/>
            <a:pathLst>
              <a:path w="20163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98036" y="21600"/>
                </a:lnTo>
                <a:arcTo wR="3600" hR="3600" stAng="10800000" swAng="5400000"/>
                <a:lnTo>
                  <a:pt x="201636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ensul  cuvinte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35280" y="5445000"/>
            <a:ext cx="1079640" cy="432000"/>
          </a:xfrm>
          <a:custGeom>
            <a:avLst/>
            <a:gdLst>
              <a:gd name="textAreaLeft" fmla="*/ 50760 w 1079640"/>
              <a:gd name="textAreaRight" fmla="*/ 1028880 w 107964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5395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355" y="21600"/>
                </a:lnTo>
                <a:arcTo wR="3600" hR="3600" stAng="10800000" swAng="5400000"/>
                <a:lnTo>
                  <a:pt x="53955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inon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32360" y="5445000"/>
            <a:ext cx="1079640" cy="432000"/>
          </a:xfrm>
          <a:custGeom>
            <a:avLst/>
            <a:gdLst>
              <a:gd name="textAreaLeft" fmla="*/ 50760 w 1079640"/>
              <a:gd name="textAreaRight" fmla="*/ 1028880 w 107964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5395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355" y="21600"/>
                </a:lnTo>
                <a:arcTo wR="3600" hR="3600" stAng="10800000" swAng="5400000"/>
                <a:lnTo>
                  <a:pt x="53955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nton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59640" y="5445000"/>
            <a:ext cx="1079280" cy="432000"/>
          </a:xfrm>
          <a:custGeom>
            <a:avLst/>
            <a:gdLst>
              <a:gd name="textAreaLeft" fmla="*/ 50760 w 1079280"/>
              <a:gd name="textAreaRight" fmla="*/ 1028520 w 107928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5393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337" y="21600"/>
                </a:lnTo>
                <a:arcTo wR="3600" hR="3600" stAng="10800000" swAng="5400000"/>
                <a:lnTo>
                  <a:pt x="53937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Omon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85080" y="5445000"/>
            <a:ext cx="1079640" cy="432000"/>
          </a:xfrm>
          <a:custGeom>
            <a:avLst/>
            <a:gdLst>
              <a:gd name="textAreaLeft" fmla="*/ 50760 w 1079640"/>
              <a:gd name="textAreaRight" fmla="*/ 1028880 w 107964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5395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355" y="21600"/>
                </a:lnTo>
                <a:arcTo wR="3600" hR="3600" stAng="10800000" swAng="5400000"/>
                <a:lnTo>
                  <a:pt x="53955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aron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24360" y="6165720"/>
            <a:ext cx="1295640" cy="432000"/>
          </a:xfrm>
          <a:custGeom>
            <a:avLst/>
            <a:gdLst>
              <a:gd name="textAreaLeft" fmla="*/ 50760 w 1295640"/>
              <a:gd name="textAreaRight" fmla="*/ 1244880 w 129564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647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1146" y="21600"/>
                </a:lnTo>
                <a:arcTo wR="3600" hR="3600" stAng="10800000" swAng="5400000"/>
                <a:lnTo>
                  <a:pt x="64746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leon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58920" y="17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5892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58920" y="3645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11280" y="472428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32000" y="472428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916360" y="1989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643280" y="1988640"/>
            <a:ext cx="1441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372360" y="198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6587640" y="1988640"/>
            <a:ext cx="1513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211640" y="5157720"/>
            <a:ext cx="1584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08720" y="5157720"/>
            <a:ext cx="576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6803640" y="515772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7093080" y="515772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372360" y="515772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1:17:20Z</dcterms:created>
  <dc:creator>acer</dc:creator>
  <dc:description/>
  <dc:language>en-US</dc:language>
  <cp:lastModifiedBy>acer</cp:lastModifiedBy>
  <dcterms:modified xsi:type="dcterms:W3CDTF">2010-04-09T13:16:41Z</dcterms:modified>
  <cp:revision>14</cp:revision>
  <dc:subject/>
  <dc:title>Slide 1</dc:title>
</cp:coreProperties>
</file>